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2934-A0D6-4353-8CA6-1094A093CE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42390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D025-B140-4525-87DF-01415BBA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42390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42390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7810-20C9-4904-8989-6362D02A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6280" y="187488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1680" y="187488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42390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6280" y="42390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1680" y="42390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3C20-F520-453C-BDE6-1FB05869B3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2F05-D56D-48FA-A300-278FF153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B621-A08E-41E8-A660-2B577A77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9F98-6418-4B0E-A73D-0B368E55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5A22-5739-4649-86F4-0D8A4940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91440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7A45-DDC3-4E11-A240-C45A2965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42390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66342-313C-4E53-8EB7-9B33F3A2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42390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5278D-1CC4-466A-A265-8FA9CA1A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87488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42390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39BAF-81AA-4FEC-8995-5665186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874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7500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E1F8-3D80-49F4-922E-D759C1E2A0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cgi.ebay.it/GUCCI-Jacket-sz-L-NEW-with-tags-AUTHENTIC-100_W0QQitemZ130079469302QQihZ003QQcategoryZ57988QQrdZ1QQcmdZViewItem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cgi.ebay.it/blue-jeans-GUCCI-da-DONNA-taglia-48-SALDI-CHE-PREZZO_W0QQitemZ290082808499QQihZ019QQcategoryZ32288QQrdZ1QQcmdZViewItem" TargetMode="External"/><Relationship Id="rId7" Type="http://schemas.openxmlformats.org/officeDocument/2006/relationships/image" Target="../media/image8.jpeg"/><Relationship Id="rId8" Type="http://schemas.openxmlformats.org/officeDocument/2006/relationships/slide" Target="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1600200"/>
            <a:ext cx="7772400" cy="282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L BALANCED SCORECARD. UN CASO CON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90720" y="5099040"/>
            <a:ext cx="723888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Francesca CUL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Torino, 22 febbrai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2F32-11FF-4D0A-BEF5-294A33DF37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574200"/>
            <a:ext cx="8381880" cy="838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Soddisfazione azionisti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3440" y="1359000"/>
            <a:ext cx="8815320" cy="55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31994-EC27-4FDD-AC35-3927D3A5FB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8381880" cy="838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Soddisfazione canali distributivi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00040" y="1717560"/>
            <a:ext cx="8142480" cy="5100840"/>
            <a:chOff x="500040" y="1717560"/>
            <a:chExt cx="8142480" cy="5100840"/>
          </a:xfrm>
        </p:grpSpPr>
        <p:sp>
          <p:nvSpPr>
            <p:cNvPr id="134" name=""/>
            <p:cNvSpPr/>
            <p:nvPr/>
          </p:nvSpPr>
          <p:spPr>
            <a:xfrm>
              <a:off x="506520" y="1724040"/>
              <a:ext cx="8130960" cy="2318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6520" y="1954080"/>
              <a:ext cx="8130960" cy="4853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7280" y="1736640"/>
              <a:ext cx="429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Arial"/>
                </a:rPr>
                <a:t>SODDISFAZIONE CANALI (dettaglianti e grossisiti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3120" y="1965240"/>
              <a:ext cx="383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DARE INCONTRO ALLE LORO ESIGENZ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6720" y="2195640"/>
              <a:ext cx="119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Time to mar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03560" y="28908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67600" y="2432160"/>
              <a:ext cx="292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% consegne alla rete ritenute "ideali"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68320" y="2654280"/>
              <a:ext cx="291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ispetto al totale delle consegne (in u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67960" y="2876400"/>
              <a:ext cx="164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erto arco temporal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5280" y="3119400"/>
              <a:ext cx="154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x di assorti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03560" y="33526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66880" y="3116160"/>
              <a:ext cx="308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% consegne con assortimento rispettos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8320" y="3338640"/>
              <a:ext cx="98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gli accord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7080" y="3581280"/>
              <a:ext cx="22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curatezza dei rifornimen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03560" y="38131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67600" y="3578400"/>
              <a:ext cx="314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% errori nei carichi sul totale delle unità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68680" y="3800520"/>
              <a:ext cx="88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segnat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7440" y="4041720"/>
              <a:ext cx="167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pi di riforni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93760" y="427500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68320" y="4038480"/>
              <a:ext cx="265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N° giorni di attesa fra l'ordine e l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68680" y="426240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seg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20" y="4503600"/>
              <a:ext cx="183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tione delle urgen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03560" y="49672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67960" y="4730760"/>
              <a:ext cx="322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N° di unità "urgenti" consegnate/n° unità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68320" y="4952880"/>
              <a:ext cx="144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"urgenti" richie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7080" y="5195880"/>
              <a:ext cx="207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za dei rifornimen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81080" y="54291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65440" y="5192640"/>
              <a:ext cx="2829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N° medio di rifornimenti mensili p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8680" y="541512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9600" y="5657760"/>
              <a:ext cx="3941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FRIRE UN ECCELLENTE CUSTOMER C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6720" y="5888160"/>
              <a:ext cx="3889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po necessario per la risoluzione dei proble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93760" y="6119640"/>
              <a:ext cx="37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66520" y="5884920"/>
              <a:ext cx="29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N° di giorni mediamente necessari p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67240" y="6107040"/>
              <a:ext cx="1501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isolvere i proble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7080" y="6348240"/>
              <a:ext cx="123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etti di C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2160" y="6350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66880" y="6337440"/>
              <a:ext cx="151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eedback dei clien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81080" y="657684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68320" y="6551640"/>
              <a:ext cx="167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74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N° contatti per ord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2640" y="3106800"/>
              <a:ext cx="405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2640" y="3106800"/>
              <a:ext cx="405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6680" y="3106800"/>
              <a:ext cx="719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6680" y="3106800"/>
              <a:ext cx="7192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2640" y="3568680"/>
              <a:ext cx="405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2640" y="3568680"/>
              <a:ext cx="405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6680" y="3568680"/>
              <a:ext cx="719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6680" y="3568680"/>
              <a:ext cx="7192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2640" y="4030560"/>
              <a:ext cx="405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2640" y="4030560"/>
              <a:ext cx="405288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6680" y="4030560"/>
              <a:ext cx="719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6680" y="4030560"/>
              <a:ext cx="71928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2640" y="4492800"/>
              <a:ext cx="405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2640" y="4492800"/>
              <a:ext cx="405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6680" y="4492800"/>
              <a:ext cx="719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6680" y="4492800"/>
              <a:ext cx="7192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2640" y="5183280"/>
              <a:ext cx="405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2640" y="5183280"/>
              <a:ext cx="405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6680" y="5183280"/>
              <a:ext cx="719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6680" y="5183280"/>
              <a:ext cx="7192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2640" y="5645160"/>
              <a:ext cx="405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2640" y="5645160"/>
              <a:ext cx="405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6680" y="5645160"/>
              <a:ext cx="719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6680" y="5645160"/>
              <a:ext cx="7192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2640" y="6337440"/>
              <a:ext cx="405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2640" y="6337440"/>
              <a:ext cx="405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6680" y="6337440"/>
              <a:ext cx="719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6680" y="6337440"/>
              <a:ext cx="7192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2640" y="6567480"/>
              <a:ext cx="4052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2640" y="6567480"/>
              <a:ext cx="40528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6680" y="6567480"/>
              <a:ext cx="719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6680" y="6567480"/>
              <a:ext cx="71928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0040" y="1724040"/>
              <a:ext cx="0" cy="50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0040" y="1724040"/>
              <a:ext cx="12600" cy="507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65520" y="1954080"/>
              <a:ext cx="0" cy="484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65520" y="1954080"/>
              <a:ext cx="11160" cy="484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95960" y="1954080"/>
              <a:ext cx="0" cy="484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95960" y="1954080"/>
              <a:ext cx="12600" cy="484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29560" y="1954080"/>
              <a:ext cx="0" cy="4840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29560" y="1954080"/>
              <a:ext cx="12960" cy="484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2000" y="1717560"/>
              <a:ext cx="4065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1717560"/>
              <a:ext cx="40654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08560" y="3106800"/>
              <a:ext cx="3321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08560" y="3106800"/>
              <a:ext cx="33210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08560" y="3568680"/>
              <a:ext cx="3321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08560" y="3568680"/>
              <a:ext cx="33210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08560" y="4030560"/>
              <a:ext cx="3321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08560" y="4030560"/>
              <a:ext cx="332100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08560" y="4492800"/>
              <a:ext cx="3321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08560" y="4492800"/>
              <a:ext cx="33210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08560" y="5183280"/>
              <a:ext cx="3321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08560" y="5183280"/>
              <a:ext cx="33210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08560" y="5645160"/>
              <a:ext cx="3321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08560" y="5645160"/>
              <a:ext cx="33210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08560" y="6337440"/>
              <a:ext cx="3321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08560" y="6337440"/>
              <a:ext cx="33210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08560" y="6567480"/>
              <a:ext cx="3321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08560" y="6567480"/>
              <a:ext cx="332100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040" y="6794640"/>
              <a:ext cx="814248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75C2-5CFB-466C-A98B-C65391802F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Eccellenza processo logistico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20680" y="1995480"/>
            <a:ext cx="8815320" cy="460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D0D3-39A1-4073-A889-41C8A16F14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8381880" cy="838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Leadership, cultura, SI e gestione personale</a:t>
            </a:r>
            <a:endParaRPr b="1" lang="en-US" sz="3600" spc="-1" strike="noStrike">
              <a:solidFill>
                <a:srgbClr val="ff33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93760" y="1773360"/>
            <a:ext cx="8815320" cy="50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38D4D-BD25-4ADF-B7D9-7C33D720E2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1066680"/>
            <a:ext cx="8381880" cy="838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IFFICOLTÀ DI IMPLEMENT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26668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ndividuazione delle cause della prestazione futura (FCS) e “testing” quantitativo delle stesse (es. dot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omplessità nella rilevazione analitica degli indicatori dei 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Molti indicatori con possibilità di segnali discor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3CE0-F419-4685-8BC2-DA01FE7A02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066680"/>
            <a:ext cx="8381880" cy="838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IL CONTROLLO DI GEST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51460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ILANCIO D’ESERCIZIO ed ANALISI DI BILANCIO: sistema di misurazione a 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suntivo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dello “stato di salute” dell’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zienda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in termini economico-finanz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ONTROLLO DI GESTIONE: sistema di responsabilizzazione dei 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anagers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entri di responsabilità) attraverso la programmazione di 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iettivi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e la misurazione di </a:t>
            </a:r>
            <a:r>
              <a:rPr b="1" lang="it-IT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isultati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individuali ed aziend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0A10-26F2-47BB-AF53-480F7DB39A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1640" cy="790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05320" y="2057400"/>
            <a:ext cx="3588480" cy="5814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zione gen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21360" y="3781440"/>
            <a:ext cx="1595160" cy="764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rezi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Produ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4160" y="3781440"/>
            <a:ext cx="1764000" cy="764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rezi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ommerci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5320" y="3782880"/>
            <a:ext cx="1439640" cy="764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rezi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R&amp;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83600" y="3781440"/>
            <a:ext cx="1439640" cy="764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rezi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83520" y="5533920"/>
            <a:ext cx="1982160" cy="764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ret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tabilimento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2666880"/>
            <a:ext cx="0" cy="6098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276720"/>
            <a:ext cx="6705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276720"/>
            <a:ext cx="0" cy="533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276720"/>
            <a:ext cx="0" cy="533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276720"/>
            <a:ext cx="0" cy="533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77320" y="3276720"/>
            <a:ext cx="0" cy="533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99040" y="4572000"/>
            <a:ext cx="0" cy="6094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5181480"/>
            <a:ext cx="19810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5181480"/>
            <a:ext cx="0" cy="381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13440" y="5181480"/>
            <a:ext cx="20880" cy="381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6080" y="5486400"/>
            <a:ext cx="1982160" cy="764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iret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tabilimento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990720"/>
            <a:ext cx="7925040" cy="812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I CENTRI DI RESPONSABIL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410080"/>
            <a:ext cx="3124440" cy="812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ENTRAMENTO E DE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37EF-177F-4685-9DA5-CC4C323822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MODELLO DI CONTROLLO “TRADIZIONALE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1160" y="1963800"/>
            <a:ext cx="6781680" cy="779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I AZIENDAL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DITO O DI REDDITIV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3276720"/>
            <a:ext cx="5486400" cy="1904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OMPOSIZION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-OBIETTIVI ECONOM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SEGNATI AI CENTR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ONS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29000" y="53341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5791320"/>
            <a:ext cx="4952880" cy="91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BASE AL PRINCIPIO DELLA CONTROLL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02000" y="2819520"/>
            <a:ext cx="538200" cy="5079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7765-EDD8-4714-8920-457FEC9907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1066680"/>
            <a:ext cx="6781680" cy="779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O ECONOMICO GLOB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182760"/>
            <a:ext cx="1904760" cy="2227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 PARZIALE “DIR. COM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182760"/>
            <a:ext cx="1905120" cy="2227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 PARZIALE “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3200400"/>
            <a:ext cx="1904760" cy="2227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 PARZIALE “DIR. AM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200400"/>
            <a:ext cx="1904760" cy="2227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 PARZIALE “DIR. PRO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638680"/>
            <a:ext cx="1828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Ric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osti commerc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638680"/>
            <a:ext cx="18288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osti indust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5638680"/>
            <a:ext cx="19814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osti amministr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5708520"/>
            <a:ext cx="18288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 flipH="1">
            <a:off x="1256760" y="1855800"/>
            <a:ext cx="3277080" cy="1318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0" idx="2"/>
            <a:endCxn id="74" idx="0"/>
          </p:cNvCxnSpPr>
          <p:nvPr/>
        </p:nvCxnSpPr>
        <p:spPr>
          <a:xfrm flipH="1">
            <a:off x="3542760" y="1855440"/>
            <a:ext cx="991080" cy="13359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0" idx="2"/>
            <a:endCxn id="73" idx="0"/>
          </p:cNvCxnSpPr>
          <p:nvPr/>
        </p:nvCxnSpPr>
        <p:spPr>
          <a:xfrm>
            <a:off x="4533480" y="1855440"/>
            <a:ext cx="1296360" cy="13359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0" idx="2"/>
            <a:endCxn id="72" idx="0"/>
          </p:cNvCxnSpPr>
          <p:nvPr/>
        </p:nvCxnSpPr>
        <p:spPr>
          <a:xfrm>
            <a:off x="4533480" y="1855800"/>
            <a:ext cx="3506040" cy="1318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82DF4-A3FD-416A-B2BB-773F20E366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9907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’attitudine “odierna” dell’azienda a soddisfare le attese degli azionisti, perché è elevato il ROE, perché è buona la redditività delle vendite, perché è favorevole l’efficienza, perché c’è un buon turnover del capitale investito, ecc. è garanzia di successo durevole, anche in futur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505320"/>
            <a:ext cx="4267440" cy="457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IDENTEMENTE 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1148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nzi…spesso i parametri economici induc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rientamento al breve peri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omportamenti a “sil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oncuranza dell’effic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2894040"/>
            <a:ext cx="1849320" cy="1222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90720" y="6019920"/>
            <a:ext cx="7467480" cy="609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 COSA OCCORRE ALLORA MISUR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7B64-9077-4952-BF75-4DFE3FCF8B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762120"/>
            <a:ext cx="838224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IL MODELLO BSC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6840" y="3276720"/>
            <a:ext cx="3674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2120" y="1846440"/>
            <a:ext cx="3810240" cy="704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ddisfacimento attese azioni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440" y="3076560"/>
            <a:ext cx="3809880" cy="693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ustomer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440" y="4227480"/>
            <a:ext cx="3809880" cy="762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ccellenza processi di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440" y="5370480"/>
            <a:ext cx="383688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itale umano ed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01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323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4227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5370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08640" y="4989600"/>
            <a:ext cx="533520" cy="3045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08640" y="3846600"/>
            <a:ext cx="533520" cy="3045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8640" y="2703600"/>
            <a:ext cx="533520" cy="3045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2" idx="3"/>
            <a:endCxn id="90" idx="3"/>
          </p:cNvCxnSpPr>
          <p:nvPr/>
        </p:nvCxnSpPr>
        <p:spPr>
          <a:xfrm flipH="1" flipV="1">
            <a:off x="7551720" y="2198160"/>
            <a:ext cx="76680" cy="2410560"/>
          </a:xfrm>
          <a:prstGeom prst="bentConnector3">
            <a:avLst>
              <a:gd name="adj1" fmla="val -288679"/>
            </a:avLst>
          </a:prstGeom>
          <a:ln w="3816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436840" y="1600200"/>
            <a:ext cx="6326280" cy="4532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6248520"/>
            <a:ext cx="84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* R. Kaplan e D. Norton,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</a:rPr>
              <a:t>The Balanced Scorecard. Translating strategy into action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</a:rPr>
              <a:t>, Harvard Business School Press, Boston,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17136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Key Performance Indicators (K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156200"/>
            <a:ext cx="22100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attori critici di successo (F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304812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715000"/>
            <a:ext cx="1905120" cy="38088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0F5C-4A39-41C8-BB2E-02AE05F5AB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Immagine:Gucci.jpg"/>
          <p:cNvPicPr/>
          <p:nvPr/>
        </p:nvPicPr>
        <p:blipFill>
          <a:blip r:embed="rId2"/>
          <a:stretch/>
        </p:blipFill>
        <p:spPr>
          <a:xfrm>
            <a:off x="7093080" y="2747880"/>
            <a:ext cx="1979640" cy="1617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620640"/>
            <a:ext cx="8382240" cy="838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IL CASO GU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093080" y="436572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75440" y="1125360"/>
            <a:ext cx="1168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93080" y="2133720"/>
            <a:ext cx="1388880" cy="1041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130880" y="5638680"/>
            <a:ext cx="1833840" cy="12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1120" y="1268280"/>
            <a:ext cx="745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20 Guccio Gucci fonda a Firenze l’azienda specializzata in pelletterie artigia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38 Guccio Gucci apre un negozio in Via dei Condotti a R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45 la Gucci diventa S.r.L. e si afferma in Europa 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53 muore Guccio e gli succedono i fig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nni ’60 Gucci si afferma in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80 Maurizio, nipote di Guccio, possiede il 50% dell’azienda ed il restante 50% è in mano ad una banca d’aff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82 la Gucci diventa S.p.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1999 il Gruppo francese PPR acquista il controllo del Gruppo Gucci ormai multi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5 fatturato pari 1,8 miliardi di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32AB-6015-4E2A-8CC3-20C1347F99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914400"/>
            <a:ext cx="8382240" cy="838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IL CASO GU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3521160"/>
            <a:ext cx="3675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1844640"/>
            <a:ext cx="6326280" cy="4532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948040"/>
            <a:ext cx="3240000" cy="660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ddisfazione canali distribu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5553000"/>
            <a:ext cx="342900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adership, cultura, SI e gestione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014560"/>
            <a:ext cx="3200400" cy="476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ddisfazione azion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957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871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624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56912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255920"/>
            <a:ext cx="3429000" cy="792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760" bIns="41760" anchor="ctr">
            <a:noAutofit/>
          </a:bodyPr>
          <a:p>
            <a:pPr algn="ctr"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ccellenza Processo Logistica Integ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02080" y="5192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824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264312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f1a111"/>
              </a:gs>
            </a:gsLst>
            <a:lin ang="5400000"/>
          </a:gradFill>
          <a:ln w="19080">
            <a:solidFill>
              <a:srgbClr val="000066"/>
            </a:solidFill>
            <a:miter/>
          </a:ln>
          <a:effectLst>
            <a:outerShdw dist="153009" dir="2493982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25" idx="3"/>
            <a:endCxn id="120" idx="3"/>
          </p:cNvCxnSpPr>
          <p:nvPr/>
        </p:nvCxnSpPr>
        <p:spPr>
          <a:xfrm flipH="1" flipV="1">
            <a:off x="6104880" y="2252160"/>
            <a:ext cx="229320" cy="2401200"/>
          </a:xfrm>
          <a:prstGeom prst="bentConnector3">
            <a:avLst>
              <a:gd name="adj1" fmla="val -95754"/>
            </a:avLst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95E0-BBF1-4C52-89AE-9A6610058D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8:22:37Z</dcterms:created>
  <dc:creator>Dott. Devalle</dc:creator>
  <dc:description/>
  <dc:language>en-US</dc:language>
  <cp:lastModifiedBy>Nome utente</cp:lastModifiedBy>
  <dcterms:modified xsi:type="dcterms:W3CDTF">2007-02-21T21:45:43Z</dcterms:modified>
  <cp:revision>106</cp:revision>
  <dc:subject/>
  <dc:title>Diapositiva 1</dc:title>
</cp:coreProperties>
</file>