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8628-A0F6-48AB-BC1F-558721837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42390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726E-6C66-43DA-B53C-4684E693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E2D4-DBA3-4E3C-A2EF-49133F2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EE3A-F619-4476-BF7F-B24C8F1CA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B0EC-6C8D-4A28-91AC-FE69B3BF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6DF4-FAD0-4B4D-808F-1E155E5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75E73-33C4-42B6-A42C-88E37658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A33A-98D1-4411-8562-05122146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0542-1F39-4EFA-AB11-F15B38EA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A2AB-16D8-4CD7-8C59-ABE1C7ED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0BF7-414C-4923-A58E-2F8683F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BA8B-DA41-4AC3-A3F8-57B5CD42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7500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67DB-7309-4537-B48D-CFAB0FCC78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Estratto da bilancio - Prospetti Telecom.pdf" TargetMode="External"/><Relationship Id="rId4" Type="http://schemas.openxmlformats.org/officeDocument/2006/relationships/hyperlink" Target="Estratto da bilancio - Prospetti Fastweb.pdf" TargetMode="External"/><Relationship Id="rId5" Type="http://schemas.openxmlformats.org/officeDocument/2006/relationships/hyperlink" Target="Estratto da bilancio - Prospetti Fiat.pdf" TargetMode="External"/><Relationship Id="rId6" Type="http://schemas.openxmlformats.org/officeDocument/2006/relationships/hyperlink" Target="Estratto da bilancio - Prospetti Geox.pdf" TargetMode="Externa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Estratto da bilancio - Prospetti Telecom.pdf" TargetMode="External"/><Relationship Id="rId4" Type="http://schemas.openxmlformats.org/officeDocument/2006/relationships/hyperlink" Target="Estratto da bilancio - Prospetti Fastweb.pdf" TargetMode="External"/><Relationship Id="rId5" Type="http://schemas.openxmlformats.org/officeDocument/2006/relationships/hyperlink" Target="Estratto da bilancio - Prospetti Fiat.pdf" TargetMode="External"/><Relationship Id="rId6" Type="http://schemas.openxmlformats.org/officeDocument/2006/relationships/hyperlink" Target="Estratto da bilancio - Prospetti Geox.pdf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600200"/>
            <a:ext cx="7772400" cy="282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L MODELLO DI BILANCIO SECONDO GLI I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TATO PATRIMONIALE E CONTO ECONO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90720" y="5099040"/>
            <a:ext cx="723888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onatella B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rino, 22 febbrai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D2929-B2EF-4865-8950-E4A6ECAB1F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3. LO STATO PATRIMONIALE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22200" y="3743280"/>
            <a:ext cx="8713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83160" rIns="8316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338292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9320" y="4146480"/>
            <a:ext cx="1820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quisto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terie p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2320" y="338292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68400" y="4146480"/>
            <a:ext cx="15386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gamento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orni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405640" y="338292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6280" y="4146480"/>
            <a:ext cx="1114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casso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48320" y="3382920"/>
            <a:ext cx="0" cy="720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49280" y="4146480"/>
            <a:ext cx="12139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endita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do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2520" y="5759280"/>
            <a:ext cx="2527560" cy="38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ICLO O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463280" y="1259280"/>
            <a:ext cx="287280" cy="7560000"/>
          </a:xfrm>
          <a:custGeom>
            <a:avLst/>
            <a:gdLst>
              <a:gd name="textAreaLeft" fmla="*/ 0 w 287280"/>
              <a:gd name="textAreaRight" fmla="*/ 103680 w 287280"/>
              <a:gd name="textAreaTop" fmla="*/ 196920 h 7560000"/>
              <a:gd name="textAreaBottom" fmla="*/ 7363080 h 756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5777640" y="422280"/>
            <a:ext cx="360360" cy="4788000"/>
          </a:xfrm>
          <a:custGeom>
            <a:avLst/>
            <a:gdLst>
              <a:gd name="textAreaLeft" fmla="*/ 0 w 360360"/>
              <a:gd name="textAreaRight" fmla="*/ 129960 w 360360"/>
              <a:gd name="textAreaTop" fmla="*/ 124560 h 4788000"/>
              <a:gd name="textAreaBottom" fmla="*/ 4663440 h 47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50760" y="2060640"/>
            <a:ext cx="2585520" cy="38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ICLO MON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9072B-A05F-4241-9A4A-132A32A57F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3. STATO PATRIMONIALE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Arial Narrow"/>
              </a:rPr>
              <a:t>Contenuto minimo (IAS 1 § 68)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mmobili, impianti e macchinar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vestimenti immobiliar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mmobilizzazioni immaterial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attività finanziari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artecipazioni contabilizzate con il metodo del patrimonio netto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attività biologich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rimanenz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crediti commerciali e altri credit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disponibilità liquide e mezzi equivalent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debiti commerciali e altri debit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accantonament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assività finanziari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assività e attività fiscali per imposte correnti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passività e attività fiscali per imposte differit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quote di pertinenza di terzi, presentato all’interno del patrimonio netto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capitale emesso e riserve attribuite ai soci di maggioranza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5D3F-BF5B-4496-9661-3375EB12DD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1268280"/>
          <a:ext cx="9144000" cy="48801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ATT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9933"/>
                          </a:solidFill>
                          <a:latin typeface="Arial"/>
                        </a:rPr>
                        <a:t>PASS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NON CORR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TRIMONIO NET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mater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immater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ITÀ NON CORR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MT Extra" charset="2"/>
                        <a:buChar char="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re attività operative e finanziarie realizzabili oltre i dodici me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MT Extra" charset="2"/>
                        <a:buChar char="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fiscali differ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biti non commerciali il cui rimborso   è previsto oltre i dodici me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CORR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manen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MT Extra" charset="2"/>
                        <a:buChar char="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re passività non operative (fondi non operativi) il cui regolamento è previsto oltre i dodici me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MT Extra" charset="2"/>
                        <a:buChar char="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ità fiscali differ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rediti commerc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ività finanziarie realizzabili entro dodici me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SSIVITÀ CORR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biti commerc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sponibilità liquide ed i mezzi equival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ndi operativ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MT Extra"/>
                          <a:ea typeface="MT Extra"/>
                        </a:rPr>
                        <a:t>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biti di qualunque natura (finanziaria, fiscale, ecc.) il cui rimborso è previsto entro l’esercizio successiv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0" y="6021360"/>
            <a:ext cx="4191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ATTIVITÀ NON CORRENTI DESTINATE</a:t>
            </a:r>
            <a:br>
              <a:rPr sz="1300"/>
            </a:b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ALLA VENDITA (IFRS 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6093000"/>
            <a:ext cx="419112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PASSIVITÀ NON CORRENTI DESTINATE ALLA VENDITA (IFRS 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3. STATO PATRIMONIALE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57FE-D87A-4417-835C-D0B2A3251A53}" type="slidenum">
              <a:t>1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3. STATO PATRIMONIALE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9933"/>
                </a:solidFill>
                <a:latin typeface="Arial Narrow"/>
              </a:rPr>
              <a:t>Alcuni casi reali: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Telecom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Fastweb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Fiat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Geox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3E3A-4F0A-4A5F-9E76-5BB76F95ABE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4. CONTO ECONOMICO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14440" y="3792600"/>
            <a:ext cx="3651120" cy="5767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er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06800" y="3808440"/>
            <a:ext cx="3578400" cy="5767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er 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destin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</p:cNvCxnSpPr>
          <p:nvPr/>
        </p:nvCxnSpPr>
        <p:spPr>
          <a:xfrm rot="5400000">
            <a:off x="3399840" y="2452680"/>
            <a:ext cx="616680" cy="2016720"/>
          </a:xfrm>
          <a:prstGeom prst="bentConnector3">
            <a:avLst>
              <a:gd name="adj1" fmla="val 5099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7" idx="2"/>
          </p:cNvCxnSpPr>
          <p:nvPr/>
        </p:nvCxnSpPr>
        <p:spPr>
          <a:xfrm flipH="1" rot="16200000">
            <a:off x="5467320" y="2401560"/>
            <a:ext cx="622800" cy="2124720"/>
          </a:xfrm>
          <a:prstGeom prst="bentConnector3">
            <a:avLst>
              <a:gd name="adj1" fmla="val 51012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99960" y="5229360"/>
            <a:ext cx="85647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e l’impresa usa la classificazione per destinazi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VE presentare un’analisi dei costi per natura nelle note al bilan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Lo IAS 1 incoraggia l’analisi per desti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69568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874520"/>
            <a:ext cx="853452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Arial Narrow"/>
              </a:rPr>
              <a:t>Lo IAS 1 (§ 78-95) prevede: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  <a:p>
            <a:pPr lvl="1" marL="830160" indent="-285480">
              <a:lnSpc>
                <a:spcPct val="85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 Narrow"/>
              </a:rPr>
              <a:t>un  contenuto MINIMO e non un contenuto rigido;</a:t>
            </a:r>
            <a:endParaRPr b="1" lang="en-US" sz="2200" spc="-1" strike="noStrike">
              <a:solidFill>
                <a:srgbClr val="ffff00"/>
              </a:solidFill>
              <a:latin typeface="Arial Narrow"/>
            </a:endParaRPr>
          </a:p>
          <a:p>
            <a:pPr lvl="1" marL="830160" indent="-285480">
              <a:lnSpc>
                <a:spcPct val="85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 Narrow"/>
              </a:rPr>
              <a:t>due schemi che differiscono per la modalità di classificazione dei costi</a:t>
            </a:r>
            <a:endParaRPr b="1" lang="en-US" sz="2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B170-36BA-4945-BBFB-DA24A919826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4. CONTO ECONOMICO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9933"/>
                </a:solidFill>
                <a:latin typeface="Arial Narrow"/>
              </a:rPr>
              <a:t>Contenuto minimo (IAS 1 § 81 e 82)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ricavi</a:t>
            </a: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oneri finanziari</a:t>
            </a: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quota dell’utile o perdita di collegate e joint venture contabilizzate con il metodo del patrimonio netto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oneri fiscali</a:t>
            </a: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un singolo importo comprendente il totale: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2" marL="1467000" indent="-209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 Narrow"/>
              </a:rPr>
              <a:t>della plusvalenza o minusvalenza (al netto degli effetti fiscali) delle attività operative cessat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467000" indent="-209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 Narrow"/>
              </a:rPr>
              <a:t>della valutazione al fair value al netto dei costi di vendita della dismissione delle attività o dei gruppi di dismissioni che costituiscono l’attività operativa cessata</a:t>
            </a:r>
            <a:r>
              <a:rPr b="1" lang="it-IT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1" marL="1077840" indent="-5331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 Narrow"/>
              </a:rPr>
              <a:t>utile netto o perdita netta dell’esercizio attribuibile a:</a:t>
            </a:r>
            <a:endParaRPr b="1" lang="en-US" sz="2000" spc="-1" strike="noStrike">
              <a:solidFill>
                <a:srgbClr val="ffff00"/>
              </a:solidFill>
              <a:latin typeface="Arial Narrow"/>
            </a:endParaRPr>
          </a:p>
          <a:p>
            <a:pPr lvl="2" marL="1467000" indent="-209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 Narrow"/>
              </a:rPr>
              <a:t>utile o perdita di competenza delle minoranze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  <a:p>
            <a:pPr lvl="2" marL="1467000" indent="-2095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 Narrow"/>
              </a:rPr>
              <a:t>utile o perdita di competenza degli azionisti di maggioranza</a:t>
            </a:r>
            <a:endParaRPr b="1" lang="en-US" sz="18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4357-E8BC-4A79-97C3-A7D6CA12CF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4. CONTO ECONOMICO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9933"/>
                </a:solidFill>
                <a:latin typeface="Arial Narrow"/>
              </a:rPr>
              <a:t>Alcuni casi reali: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Telecom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Fastweb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Fiat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Bef>
                <a:spcPts val="6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it-IT" sz="26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Geox</a:t>
            </a:r>
            <a:endParaRPr b="1" lang="en-US" sz="2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17F4B-A55E-47BB-96AF-D34DB98B08E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. QUADRO GIURIDICO DI RIFERIMENTO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8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ahoma"/>
              </a:rPr>
              <a:t>DAL BILANCIO 2005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428760" y="2276640"/>
            <a:ext cx="3744720" cy="18046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OCIETÀ QUOTATE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ER OBBL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TRE SOCIETÀ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ER SC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14800" y="2276640"/>
            <a:ext cx="3745080" cy="18730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TRE SOCIETÀ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14480" y="4365720"/>
            <a:ext cx="5968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99240" y="4392720"/>
            <a:ext cx="5983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56880" y="4954680"/>
            <a:ext cx="2527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NUOVE REG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AS/IF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07720" y="4935600"/>
            <a:ext cx="2716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VECCHIE REG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13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D.LGS. 127/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C5DB-2C92-41B0-A8A5-14DAB04C4D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. QUADRO GIURIDICO DI RIFERIMENTO 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IAS/IFRS </a:t>
            </a:r>
            <a:r>
              <a:rPr b="1" lang="it-IT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 emanati dallo IASB (International Accounting Standard Board)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IAS </a:t>
            </a:r>
            <a:r>
              <a:rPr b="1" lang="it-IT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 International Accounting Standard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IFRS </a:t>
            </a:r>
            <a:r>
              <a:rPr b="1" lang="it-IT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 International Financial Reporting Standard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3954-687A-49D5-BB62-C981F6793C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. QUADRO GIURIDICO DI RIFERIMENTO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</a:rPr>
              <a:t>Regolamenti comunitari per gli IAS/IFRS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933720"/>
            <a:ext cx="760320" cy="51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72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1440" y="2854440"/>
            <a:ext cx="3255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606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Soggetti obblig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ole per omolog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7480" y="4441680"/>
            <a:ext cx="2394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tegrato, in Ital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al D.Lgs. 38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5" idx="0"/>
          </p:cNvCxnSpPr>
          <p:nvPr/>
        </p:nvCxnSpPr>
        <p:spPr>
          <a:xfrm rot="5400000">
            <a:off x="3265560" y="1472040"/>
            <a:ext cx="375480" cy="2390040"/>
          </a:xfrm>
          <a:prstGeom prst="bentConnector3">
            <a:avLst>
              <a:gd name="adj1" fmla="val 4952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226840" y="2854440"/>
            <a:ext cx="19159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725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  707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2086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2236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2237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2238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  21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751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864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9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2106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  108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  708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ahoma"/>
              </a:rPr>
              <a:t>Reg. 1329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3" idx="2"/>
            <a:endCxn id="58" idx="0"/>
          </p:cNvCxnSpPr>
          <p:nvPr/>
        </p:nvCxnSpPr>
        <p:spPr>
          <a:xfrm flipH="1" rot="16200000">
            <a:off x="5229000" y="1898280"/>
            <a:ext cx="375480" cy="1537200"/>
          </a:xfrm>
          <a:prstGeom prst="bentConnector3">
            <a:avLst>
              <a:gd name="adj1" fmla="val 4952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7380360" y="3502080"/>
            <a:ext cx="1655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ontengono i principi tradotti che le società europee devono adot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2854440"/>
            <a:ext cx="287280" cy="4103640"/>
          </a:xfrm>
          <a:custGeom>
            <a:avLst/>
            <a:gdLst>
              <a:gd name="textAreaLeft" fmla="*/ 0 w 287280"/>
              <a:gd name="textAreaRight" fmla="*/ 10368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72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33AB-5464-4F42-A42E-A11FAECA7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. QUADRO GIURIDICO DI RIFERIMENTO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1280" y="1795320"/>
          <a:ext cx="8964720" cy="4946760"/>
        </p:xfrm>
        <a:graphic>
          <a:graphicData uri="http://schemas.openxmlformats.org/drawingml/2006/table">
            <a:tbl>
              <a:tblPr/>
              <a:tblGrid>
                <a:gridCol w="3924360"/>
                <a:gridCol w="1943280"/>
                <a:gridCol w="3097080"/>
              </a:tblGrid>
              <a:tr h="576360">
                <a:tc>
                  <a:txBody>
                    <a:bodyPr lIns="108000" rIns="108000" tIns="108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TIPOLOGIE DI SOCIET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108000" tIns="108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BILANCIO CONSOLIDATO 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08000" rIns="108000" tIns="108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BILANCIO D’ESERCIZI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66"/>
                          </a:solidFill>
                          <a:latin typeface="Arial Narrow"/>
                          <a:ea typeface="Times New Roman"/>
                        </a:rPr>
                        <a:t>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a) società quot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b) società con strumenti finanziari diffusi tra il pubbl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c) banche italiane, capogruppo di gruppi bancari, SIM, SGR, finanziarie, istituti di moneta elettro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d) società assicur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OBBLIGO DA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Se quotate e no bilancio consolid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e) società incluse nel bilancio consolidato di società sub a), b), c) e 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) società che redigono il bilancio consolidato diverse dalle società sub a), b), c) e 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se opzione per il consolid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g/1) società diverse da precedenti incluse nel bilancio consolidato di società sub f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…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 2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g/2) società diverse da precedenti non incluse in un bilancio consolid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…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FACOLTÀ dall’esercizio individuato con apposito decre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h) società che possono redigere il bilancio abbrevi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…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36000" bIns="36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06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E1F1-2877-44E6-8E7A-2DFEBE24D9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1920" y="3530520"/>
            <a:ext cx="416376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REDDITO PRODOT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" y="5349960"/>
            <a:ext cx="4160880" cy="606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PREVALENZA “FORM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800" y="4125960"/>
            <a:ext cx="4160880" cy="606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PRUD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" y="4735440"/>
            <a:ext cx="416088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C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920" y="2914560"/>
            <a:ext cx="416376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CREDI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360" y="1847880"/>
            <a:ext cx="416412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odice Civ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51280" y="1847880"/>
            <a:ext cx="416412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IAS / IF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3530520"/>
            <a:ext cx="416412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REDDITO POTENZ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3840" y="5349960"/>
            <a:ext cx="4160880" cy="606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PREVALENZA “SOSTANZ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3840" y="4125960"/>
            <a:ext cx="4160880" cy="606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COMPET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3840" y="4735440"/>
            <a:ext cx="416088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FAIR VAL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2914560"/>
            <a:ext cx="416412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INVESTIT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630320" y="1611360"/>
            <a:ext cx="12600" cy="556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8040" y="5964120"/>
            <a:ext cx="416088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 Narrow"/>
              </a:rPr>
              <a:t>BILANCIO (SP, CE, N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8520" y="5964120"/>
            <a:ext cx="4160880" cy="609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efc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3300"/>
                </a:solidFill>
                <a:latin typeface="Arial Narrow"/>
              </a:rPr>
              <a:t>BILANCIO (SP, CE, NI, RF, </a:t>
            </a:r>
            <a:r>
              <a:rPr b="1" lang="el-GR" sz="2600" spc="-1" strike="noStrike">
                <a:solidFill>
                  <a:srgbClr val="ff3300"/>
                </a:solidFill>
                <a:latin typeface="Arial Narrow"/>
              </a:rPr>
              <a:t>Δ</a:t>
            </a:r>
            <a:r>
              <a:rPr b="1" lang="it-IT" sz="2600" spc="-1" strike="noStrike">
                <a:solidFill>
                  <a:srgbClr val="ff3300"/>
                </a:solidFill>
                <a:latin typeface="Arial Narrow"/>
              </a:rPr>
              <a:t>P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. LE DIFFERENZE TRA I MODELLI DI BILANCIO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C915-142F-4CE7-A8B7-85A5C515CB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. LE DIFFERENZE TRA I MODELLI DI BILANCIO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920" y="3579480"/>
            <a:ext cx="2160720" cy="12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Narrow"/>
              </a:rPr>
              <a:t>Modello di bilancio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Narrow"/>
              </a:rPr>
              <a:t>Codice Civile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3645000"/>
            <a:ext cx="2160720" cy="12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Narrow"/>
              </a:rPr>
              <a:t>Modello di bilan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Narrow"/>
              </a:rPr>
              <a:t>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2148840" y="3762360"/>
            <a:ext cx="4824360" cy="98892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3962520"/>
            <a:ext cx="720720" cy="834840"/>
          </a:xfrm>
          <a:custGeom>
            <a:avLst/>
            <a:gdLst>
              <a:gd name="textAreaLeft" fmla="*/ 112320 w 720720"/>
              <a:gd name="textAreaRight" fmla="*/ 630720 w 720720"/>
              <a:gd name="textAreaTop" fmla="*/ 208800 h 834840"/>
              <a:gd name="textAreaBottom" fmla="*/ 626400 h 83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3103560" y="3929040"/>
            <a:ext cx="720720" cy="835200"/>
          </a:xfrm>
          <a:custGeom>
            <a:avLst/>
            <a:gdLst>
              <a:gd name="textAreaLeft" fmla="*/ 112320 w 720720"/>
              <a:gd name="textAreaRight" fmla="*/ 630720 w 720720"/>
              <a:gd name="textAreaTop" fmla="*/ 208800 h 835200"/>
              <a:gd name="textAreaBottom" fmla="*/ 626400 h 83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1D51-3063-4487-B919-F2D98CB970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. LE DIFFERENZE TRA I MODELLI DI BILANCIO</a:t>
            </a:r>
            <a:endParaRPr b="1" lang="en-US" sz="24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 Narrow"/>
              </a:rPr>
              <a:t>Esercizio 2004 – Bilancio consolidato – Campione di 188 bilanci consolidati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9933"/>
                </a:solidFill>
                <a:latin typeface="Arial Narrow"/>
              </a:rPr>
              <a:t>COME È CAMBIATO IL RISULTATO D’ESERCIZIO? 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33280" y="3500280"/>
            <a:ext cx="8675640" cy="27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8207-1750-4CDF-9C0A-E27C714F1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3. STATO PATRIMONIALE IAS</a:t>
            </a:r>
            <a:endParaRPr b="1" lang="en-US" sz="28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874520"/>
            <a:ext cx="8534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Tahoma"/>
              </a:rPr>
              <a:t>Lo IAS 1 (§ 51-77) prevede:</a:t>
            </a:r>
            <a:endParaRPr b="1" lang="en-US" sz="2600" spc="-1" strike="noStrike">
              <a:solidFill>
                <a:srgbClr val="ff9933"/>
              </a:solidFill>
              <a:latin typeface="Arial Narrow"/>
            </a:endParaRPr>
          </a:p>
          <a:p>
            <a:pPr lvl="1" marL="830160" indent="-285480">
              <a:lnSpc>
                <a:spcPct val="85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un  contenuto MINIMO e non un contenuto rigido;</a:t>
            </a:r>
            <a:endParaRPr b="1" lang="en-US" sz="2200" spc="-1" strike="noStrike">
              <a:solidFill>
                <a:srgbClr val="ffff00"/>
              </a:solidFill>
              <a:latin typeface="Arial Narrow"/>
            </a:endParaRPr>
          </a:p>
          <a:p>
            <a:pPr lvl="1" marL="830160" indent="-285480">
              <a:lnSpc>
                <a:spcPct val="85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schemi che differiscono per la modalità di classificazione delle attività e delle passività</a:t>
            </a:r>
            <a:endParaRPr b="1" lang="en-US" sz="2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977760" y="4122720"/>
            <a:ext cx="2411640" cy="4413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Ciclo ope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54720" y="4124160"/>
            <a:ext cx="2411280" cy="4413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Liquid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90" idx="2"/>
            <a:endCxn id="91" idx="0"/>
          </p:cNvCxnSpPr>
          <p:nvPr/>
        </p:nvCxnSpPr>
        <p:spPr>
          <a:xfrm rot="5400000">
            <a:off x="3069000" y="2543760"/>
            <a:ext cx="694440" cy="2464560"/>
          </a:xfrm>
          <a:prstGeom prst="bentConnector3">
            <a:avLst>
              <a:gd name="adj1" fmla="val 49844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0" idx="2"/>
            <a:endCxn id="92" idx="0"/>
          </p:cNvCxnSpPr>
          <p:nvPr/>
        </p:nvCxnSpPr>
        <p:spPr>
          <a:xfrm flipH="1" rot="16200000">
            <a:off x="5306400" y="2769480"/>
            <a:ext cx="695520" cy="2013480"/>
          </a:xfrm>
          <a:prstGeom prst="bentConnector3">
            <a:avLst>
              <a:gd name="adj1" fmla="val 49766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5081760" y="5202360"/>
            <a:ext cx="3162240" cy="710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Utilizzabile solo se informazioni più attendibili e significative rispetto al ciclo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6660720" y="4565160"/>
            <a:ext cx="2520" cy="637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900000" y="5202360"/>
            <a:ext cx="2592360" cy="710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Attività e passività distinte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- Corren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- Non corr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2"/>
            <a:endCxn id="97" idx="0"/>
          </p:cNvCxnSpPr>
          <p:nvPr/>
        </p:nvCxnSpPr>
        <p:spPr>
          <a:xfrm>
            <a:off x="2184120" y="4563720"/>
            <a:ext cx="13320" cy="6390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 rot="5400000">
            <a:off x="4445640" y="1727640"/>
            <a:ext cx="216000" cy="8748720"/>
          </a:xfrm>
          <a:custGeom>
            <a:avLst/>
            <a:gdLst>
              <a:gd name="textAreaLeft" fmla="*/ 0 w 216000"/>
              <a:gd name="textAreaRight" fmla="*/ 78120 w 216000"/>
              <a:gd name="textAreaTop" fmla="*/ 227880 h 8748720"/>
              <a:gd name="textAreaBottom" fmla="*/ 8520840 h 87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81160" y="6200640"/>
            <a:ext cx="49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dicazione scadenza attività e pass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FBB6-49C6-4AE5-9752-6D7F5BD618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8:22:37Z</dcterms:created>
  <dc:creator>Dott. Devalle</dc:creator>
  <dc:description/>
  <dc:language>en-US</dc:language>
  <cp:lastModifiedBy>DB</cp:lastModifiedBy>
  <dcterms:modified xsi:type="dcterms:W3CDTF">2007-02-22T07:21:07Z</dcterms:modified>
  <cp:revision>119</cp:revision>
  <dc:subject/>
  <dc:title>Diapositiva 1</dc:title>
</cp:coreProperties>
</file>