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79819-4AA0-48BE-89C6-EB1AAE11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DB7C0-ED4A-479C-BE46-A3CA0EE8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31282-0919-4466-ACB8-BA2A72B3B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D0126-4D60-44D4-AA47-3CB607A5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C202-A849-47BF-BD39-BB8BE477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6A83-0512-4D77-95A5-8A99BE5D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1464-F0A0-4290-AE9C-F784096C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7261-F1E9-4DA7-8DA8-6987D1E2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BC6D-2774-4CCF-99CF-353BCB82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5AE1-B818-49CF-86DA-0D3B7DCE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BCD5-F3E7-4065-96C2-C48F6FF4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6C3E0-12C1-43D2-B7F8-953FB841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9DC9-8C8F-4F09-9FF2-2111C901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FF75-77FC-4C16-AD97-9FC5FEA9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8F70-0725-49D1-B9F4-F1006EB3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31AE-8FCA-49A2-B550-A1CAA3989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2AB6-FC71-4191-984C-48EC019B2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92FA4-B93D-46DC-98C9-0C79B7F1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32267-2E33-4036-89C0-2CA225E6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B5464-D3D6-4A5E-A6CA-C03EC2A7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83078-F004-4CD4-A10F-24EEE5A8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420F0-FEA5-4344-97AF-6A73011D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A60E4-BC52-402F-9CC6-A381B502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E078F-DDFC-476F-9FC9-8E3AC395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A114-83E7-4938-9984-C5E5F3F3C0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6225-345D-4B92-9354-24F13C255B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cc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250e"/>
                </a:solidFill>
                <a:latin typeface="Arial"/>
              </a:rPr>
              <a:t>ENTOMOLOGIA GENERA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ntomologia è la scienza che studia gl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et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vvero la classe del Regno animale più numerosa e adattabile presente sulla Terra. Lo studio della loro anatomia e fisiologia permette di introdurre lo studente a comprendere meglio la parte speciale relativa ai danni contro le piante che affronterà in segu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3300"/>
                </a:solidFill>
                <a:latin typeface="Arial"/>
              </a:rPr>
              <a:t>SCHEMA DEL CICLO METABOLICO COMPLETO E DELLA METAMORFOSI</a:t>
            </a:r>
            <a:r>
              <a:rPr b="0" lang="it-IT" sz="2800" spc="-1" strike="noStrike">
                <a:solidFill>
                  <a:srgbClr val="fc250e"/>
                </a:solidFill>
                <a:latin typeface="Arial"/>
              </a:rPr>
              <a:t> di un insetto eterometabolo (Metcalfa pruino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86240" y="236844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2876400" cy="1904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019920" y="4419720"/>
            <a:ext cx="2895480" cy="18856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250920" y="4724280"/>
            <a:ext cx="2895480" cy="1905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562720" y="4952880"/>
            <a:ext cx="3047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72200" y="3429000"/>
            <a:ext cx="21448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NINFA SI TRASFOR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NEAN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1905120"/>
            <a:ext cx="4572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UOVO SI TRASFORM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NINF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3933720"/>
            <a:ext cx="302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ADULTO MASCHIO E QUEL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MMINA SI ACCOPPIANO E S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PARTE DA CAPO CON IL CICL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ninfa.jpg (127993 byte)"/>
          <p:cNvPicPr/>
          <p:nvPr/>
        </p:nvPicPr>
        <p:blipFill>
          <a:blip r:embed="rId4"/>
          <a:stretch/>
        </p:blipFill>
        <p:spPr>
          <a:xfrm>
            <a:off x="6019920" y="1447920"/>
            <a:ext cx="2895480" cy="19018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429360" y="5105520"/>
            <a:ext cx="2241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NEANIDE SI TRASFOR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DUL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21337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152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276720" y="53341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44792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19640" y="5877000"/>
            <a:ext cx="201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METAMORFO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6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8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2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2081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OMETAB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questi insetti la trasformazione (o metamorfosi) è molto evid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forme giovanili sono le larve e spesso sono molto differenti dagli adul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larve non hanno ali ed il loro apparato boccale può essere molto diverso (ad esempio le farfal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stica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 giovani 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chia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 adult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olte vivono in luoghi completamente diversi dagli adul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3300"/>
                </a:solidFill>
                <a:latin typeface="WeddingText BT"/>
              </a:rPr>
              <a:t>SCHEMA DEL CICLO METABOLICO COMPLETO E DELLA METAMORFOSI di un insetto olometabolo (Acrolepiopsis assectell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940360" y="1844640"/>
            <a:ext cx="2951280" cy="1728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940360" y="4869000"/>
            <a:ext cx="2952720" cy="1734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250920" y="4869000"/>
            <a:ext cx="2950920" cy="1719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250920" y="1773360"/>
            <a:ext cx="2952720" cy="1726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348000" y="2205000"/>
            <a:ext cx="2448000" cy="792360"/>
          </a:xfrm>
          <a:prstGeom prst="rightArrow">
            <a:avLst>
              <a:gd name="adj1" fmla="val 50000"/>
              <a:gd name="adj2" fmla="val 7723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250e"/>
                </a:solidFill>
                <a:latin typeface="Arial"/>
              </a:rPr>
              <a:t>L’</a:t>
            </a:r>
            <a:r>
              <a:rPr b="1" i="1" lang="en-US" sz="1600" spc="-1" strike="noStrike">
                <a:solidFill>
                  <a:srgbClr val="fc250e"/>
                </a:solidFill>
                <a:latin typeface="Arial"/>
              </a:rPr>
              <a:t>UOVO</a:t>
            </a:r>
            <a:r>
              <a:rPr b="1" lang="en-US" sz="1600" spc="-1" strike="noStrike">
                <a:solidFill>
                  <a:srgbClr val="fc250e"/>
                </a:solidFill>
                <a:latin typeface="Arial"/>
              </a:rPr>
              <a:t> dive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c250e"/>
                </a:solidFill>
                <a:latin typeface="Arial"/>
              </a:rPr>
              <a:t>LAR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20000" y="3860640"/>
            <a:ext cx="863640" cy="64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250e"/>
                </a:solidFill>
                <a:latin typeface="Arial"/>
              </a:rPr>
              <a:t>La </a:t>
            </a:r>
            <a:r>
              <a:rPr b="1" i="1" lang="en-US" sz="1600" spc="-1" strike="noStrike">
                <a:solidFill>
                  <a:srgbClr val="fc250e"/>
                </a:solidFill>
                <a:latin typeface="Arial"/>
              </a:rPr>
              <a:t>LARVA</a:t>
            </a:r>
            <a:r>
              <a:rPr b="1" lang="en-US" sz="1600" spc="-1" strike="noStrike">
                <a:solidFill>
                  <a:srgbClr val="fc250e"/>
                </a:solidFill>
                <a:latin typeface="Arial"/>
              </a:rPr>
              <a:t> dive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c250e"/>
                </a:solidFill>
                <a:latin typeface="Arial"/>
              </a:rPr>
              <a:t>CRISA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48000" y="5229360"/>
            <a:ext cx="2448000" cy="792000"/>
          </a:xfrm>
          <a:prstGeom prst="leftArrow">
            <a:avLst>
              <a:gd name="adj1" fmla="val 50000"/>
              <a:gd name="adj2" fmla="val 7727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250e"/>
                </a:solidFill>
                <a:latin typeface="Arial"/>
              </a:rPr>
              <a:t>La </a:t>
            </a:r>
            <a:r>
              <a:rPr b="1" i="1" lang="en-US" sz="1600" spc="-1" strike="noStrike">
                <a:solidFill>
                  <a:srgbClr val="fc250e"/>
                </a:solidFill>
                <a:latin typeface="Arial"/>
              </a:rPr>
              <a:t>CRISALIDE</a:t>
            </a:r>
            <a:r>
              <a:rPr b="1" lang="en-US" sz="1600" spc="-1" strike="noStrike">
                <a:solidFill>
                  <a:srgbClr val="fc250e"/>
                </a:solidFill>
                <a:latin typeface="Arial"/>
              </a:rPr>
              <a:t> dive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c250e"/>
                </a:solidFill>
                <a:latin typeface="Arial"/>
              </a:rPr>
              <a:t>ADUL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58920" y="3789360"/>
            <a:ext cx="863640" cy="719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250e"/>
                </a:solidFill>
                <a:latin typeface="Arial"/>
              </a:rPr>
              <a:t>Due adulti di cui u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c250e"/>
                </a:solidFill>
                <a:latin typeface="Arial"/>
              </a:rPr>
              <a:t>MASCHIO </a:t>
            </a:r>
            <a:r>
              <a:rPr b="1" lang="en-US" sz="1600" spc="-1" strike="noStrike">
                <a:solidFill>
                  <a:srgbClr val="fc250e"/>
                </a:solidFill>
                <a:latin typeface="Arial"/>
              </a:rPr>
              <a:t>e uno </a:t>
            </a:r>
            <a:r>
              <a:rPr b="1" i="1" lang="en-US" sz="1600" spc="-1" strike="noStrike">
                <a:solidFill>
                  <a:srgbClr val="fc250e"/>
                </a:solidFill>
                <a:latin typeface="Arial"/>
              </a:rPr>
              <a:t>FEMMINA</a:t>
            </a:r>
            <a:r>
              <a:rPr b="1" lang="en-US" sz="1600" spc="-1" strike="noStrike">
                <a:solidFill>
                  <a:srgbClr val="fc250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250e"/>
                </a:solidFill>
                <a:latin typeface="Arial"/>
              </a:rPr>
              <a:t>si riproducono dando vita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250e"/>
                </a:solidFill>
                <a:latin typeface="Arial"/>
              </a:rPr>
              <a:t>delle nuove </a:t>
            </a:r>
            <a:r>
              <a:rPr b="1" i="1" lang="en-US" sz="1600" spc="-1" strike="noStrike">
                <a:solidFill>
                  <a:srgbClr val="fc250e"/>
                </a:solidFill>
                <a:latin typeface="Arial"/>
              </a:rPr>
              <a:t>UOVA</a:t>
            </a:r>
            <a:r>
              <a:rPr b="1" lang="en-US" sz="1600" spc="-1" strike="noStrike">
                <a:solidFill>
                  <a:srgbClr val="fc250e"/>
                </a:solidFill>
                <a:latin typeface="Arial"/>
              </a:rPr>
              <a:t>, iniz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250e"/>
                </a:solidFill>
                <a:latin typeface="Arial"/>
              </a:rPr>
              <a:t>un nuo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250e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c250e"/>
                </a:solidFill>
                <a:latin typeface="Arial"/>
              </a:rPr>
              <a:t>CICLO BIOLO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4000" y="6165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METAMORFO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" dur="2000" fill="hold"/>
                                        <p:tgtEl>
                                          <p:spTgt spid="1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2000" fill="hold"/>
                                        <p:tgtEl>
                                          <p:spTgt spid="1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500"/>
                            </p:stCondLst>
                            <p:childTnLst>
                              <p:par>
                                <p:cTn id="1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2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1" dur="2000" fill="hold"/>
                                        <p:tgtEl>
                                          <p:spTgt spid="1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203640" y="836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59280" y="90792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CLO METABO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941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durata del ciclo metabolico vitale degli insetti può variare a seconda della spec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 possono essere più generazioni nello stesso anno oppure un ciclo completo può durare 2-3 an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’ importante rilevare come ciascun insetto trascorre l’inverno (svernamento) quasi sempre allo stesso stad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0" t="0" r="0" b="5757"/>
          <a:stretch/>
        </p:blipFill>
        <p:spPr>
          <a:xfrm>
            <a:off x="1763640" y="1557360"/>
            <a:ext cx="5545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iclo biologico o metabol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57200" y="1981080"/>
          <a:ext cx="8229600" cy="3708360"/>
        </p:xfrm>
        <a:graphic>
          <a:graphicData uri="http://schemas.openxmlformats.org/drawingml/2006/table">
            <a:tbl>
              <a:tblPr/>
              <a:tblGrid>
                <a:gridCol w="801720"/>
                <a:gridCol w="720720"/>
                <a:gridCol w="563400"/>
                <a:gridCol w="608040"/>
                <a:gridCol w="609840"/>
                <a:gridCol w="604800"/>
                <a:gridCol w="610920"/>
                <a:gridCol w="601920"/>
                <a:gridCol w="614160"/>
                <a:gridCol w="608040"/>
                <a:gridCol w="606600"/>
                <a:gridCol w="609480"/>
                <a:gridCol w="669960"/>
              </a:tblGrid>
              <a:tr h="77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U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98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o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77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an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7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n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77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ul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050920" y="549360"/>
            <a:ext cx="4681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666699"/>
                    </a:gs>
                  </a:gsLst>
                  <a:lin ang="5400000"/>
                </a:gradFill>
                <a:latin typeface="Arial Black"/>
              </a:rPr>
              <a:t>INSETTI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666699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476360" y="2276640"/>
          <a:ext cx="6095880" cy="36828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X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9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EMP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9ea"/>
                    </a:solidFill>
                  </a:tcPr>
                </a:tc>
              </a:tr>
              <a:tr h="32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l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gl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ropod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et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idotte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rtricid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d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dia pomonel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2339280" y="616572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istono altri sottogruppi interm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6360" y="141300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ESEMPIO DI INSERIMENTO ALL’INTERNO DEL REGNO ANIM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91560" y="2060640"/>
            <a:ext cx="813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ropod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on posseggono uno scheletro ed hanno zampe articol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edono generalmen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arti quando sono adul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loro corpo è costituito da un insieme di segment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348000" y="4365720"/>
            <a:ext cx="1825560" cy="2303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692360" y="3573360"/>
            <a:ext cx="259236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63640" y="3933720"/>
            <a:ext cx="252108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8000" y="4221000"/>
            <a:ext cx="23767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00000" y="907920"/>
            <a:ext cx="5327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eneralità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02120" y="1125360"/>
            <a:ext cx="718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 di esso vi sono un paio di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antenn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stituite da organi sensorial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l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ppendici boccal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 struttura mol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42520" y="206064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ARATO BOC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979280" y="242100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67280" y="249228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8720" y="299736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TIC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61800" y="292428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CHI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04320" y="3357720"/>
            <a:ext cx="338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È costituito da labbro superio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bro inferiore e masc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37760" y="3284640"/>
            <a:ext cx="379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vi sono né labbro superiore n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ndibole, mentre l’appendice pi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stosa è costituita dalla spiritrom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411280" y="549360"/>
            <a:ext cx="3240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250e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CAPO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250e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27" name="" descr="A. convolvuli (© Henk Reijnders)"/>
          <p:cNvPicPr/>
          <p:nvPr/>
        </p:nvPicPr>
        <p:blipFill>
          <a:blip r:embed="rId1"/>
          <a:stretch/>
        </p:blipFill>
        <p:spPr>
          <a:xfrm>
            <a:off x="5148360" y="4221000"/>
            <a:ext cx="3564000" cy="244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324000" y="4172040"/>
          <a:ext cx="2950920" cy="242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4172040"/>
                    <a:ext cx="2950920" cy="24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CUNI INSETTI HANNO APPARATO BOCCALE PUNGENTE-SUCCHIAN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3600720" cy="3384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3889440" cy="3384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11280" y="558972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ZANZARA TIGRE SI NUTRE DEL SANGUE DI ANIMALI: ZOOF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3280" y="551664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 TINGIDE DEL PLATANO SUCCHIA LA LINFA DALLE FOGLIE DELLA PIANTA: FITOF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67 L 0.108 0.08267 L 0.072 0.16667 L 0.108 0.24933 L 0.036 0.24933 L 0 0.33333 L -0.036 0.24933 L -0.108 0.24933 L -0.072 0.16667 L -0.108 0.08267 L -0.036 0.08267 L 0 0 Z">
                                      <p:cBhvr>
                                        <p:cTn id="13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95280" y="1341360"/>
            <a:ext cx="772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formato da tre segmenti che prendono il nome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rotorace, mesotorac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metator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ul torace trovia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17440" y="227664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M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56360" y="1773360"/>
            <a:ext cx="5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565360"/>
            <a:ext cx="4755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egli adulti tipicamente in numero di 6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elle forme giovanili possono essere pi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umerose o mancare del tu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ossono essere saltatorie, raptator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mbulatorie semplici, natatorie, fossori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 seconda della loro fun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74920" y="2492280"/>
            <a:ext cx="4092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 numero massimo di 2 pa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alvolta ass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ossono essere membrano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 indurite (sclerificate): in q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aso si chiamano elitre o semieli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951280" y="1044720"/>
            <a:ext cx="3456000" cy="439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221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 Black"/>
              </a:rPr>
              <a:t>TORACE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04000" y="4797360"/>
            <a:ext cx="2116080" cy="1787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88000" y="4221000"/>
            <a:ext cx="1944720" cy="1573200"/>
          </a:xfrm>
          <a:prstGeom prst="rect">
            <a:avLst/>
          </a:prstGeom>
          <a:ln w="0">
            <a:noFill/>
          </a:ln>
        </p:spPr>
      </p:pic>
      <p:pic>
        <p:nvPicPr>
          <p:cNvPr id="143" name="InLeSpMaStA0010" descr="M. stellatarum (© Paolo Mazzei)"/>
          <p:cNvPicPr/>
          <p:nvPr/>
        </p:nvPicPr>
        <p:blipFill>
          <a:blip r:embed="rId3"/>
          <a:stretch/>
        </p:blipFill>
        <p:spPr>
          <a:xfrm>
            <a:off x="539640" y="4508640"/>
            <a:ext cx="2284560" cy="1942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H="1">
            <a:off x="8459640" y="3213000"/>
            <a:ext cx="144720" cy="2087640"/>
          </a:xfrm>
          <a:prstGeom prst="line">
            <a:avLst/>
          </a:prstGeom>
          <a:ln w="38160">
            <a:solidFill>
              <a:srgbClr val="fc25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084720" y="3500280"/>
            <a:ext cx="216000" cy="1008360"/>
          </a:xfrm>
          <a:prstGeom prst="line">
            <a:avLst/>
          </a:prstGeom>
          <a:ln w="38160">
            <a:solidFill>
              <a:srgbClr val="cc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59560" y="1989000"/>
            <a:ext cx="859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È costituito da 10-11 segmenti. È la regione più voluminosa del corpo e contien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gior parte dell’apparato digerente e riprodut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addome può presentare alcune append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268360" y="476280"/>
            <a:ext cx="3816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cc"/>
                    </a:gs>
                    <a:gs pos="50000">
                      <a:srgbClr val="b4b9ea"/>
                    </a:gs>
                    <a:gs pos="100000">
                      <a:srgbClr val="9999cc"/>
                    </a:gs>
                  </a:gsLst>
                  <a:lin ang="5400000"/>
                </a:gradFill>
                <a:latin typeface="Times New Roman"/>
              </a:rPr>
              <a:t>ADDOME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cc"/>
                  </a:gs>
                  <a:gs pos="50000">
                    <a:srgbClr val="b4b9ea"/>
                  </a:gs>
                  <a:gs pos="100000">
                    <a:srgbClr val="9999cc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58920" y="4365720"/>
            <a:ext cx="1380960" cy="2016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82320" y="3376440"/>
            <a:ext cx="328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OPOSi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ente la deposizione del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5040" y="4437000"/>
            <a:ext cx="4530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ER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unzionano soprattutto 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de degli organi di senso. 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ovano ad esempio nei Dermatt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forbicine), nelle Effimere o negli Imenott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19280" y="3716280"/>
            <a:ext cx="431640" cy="187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556000" y="4581360"/>
            <a:ext cx="1511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250e"/>
                </a:solidFill>
                <a:latin typeface="Arial"/>
              </a:rPr>
              <a:t>METAMORFO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CARATTERISTICA PRINCIPALE DI QUASI TUTTI GLI INSETTI E’ LA DOPPIA VITA, DIVISA CIOE’ IN DUE FASI PRINCIPAL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GIOV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’ADUL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EROMETAB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questi insetti la trasformazione (o metamorfosi) è meno evid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forme giovanili sono più piccole e spesso assomigliano ad adulti in mini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giovani non hanno ali o queste si stanno form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olte vivono in luoghi completamente diversi dagli adul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16:58:01Z</dcterms:created>
  <dc:creator>studente</dc:creator>
  <dc:description/>
  <dc:language>en-US</dc:language>
  <cp:lastModifiedBy>riccardo</cp:lastModifiedBy>
  <dcterms:modified xsi:type="dcterms:W3CDTF">1999-12-31T22:19:21Z</dcterms:modified>
  <cp:revision>15</cp:revision>
  <dc:subject/>
  <dc:title>Diapositiva 1</dc:title>
</cp:coreProperties>
</file>