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E443F-E58C-4BA4-BFC5-CCEA2F22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BB903-B0FB-42D9-BF50-EB27BB0F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8232C-4E02-4B89-9ED4-E4AE49AA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B83B0-47E3-4337-AAE0-F8267A02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FD49-DC2A-4FA1-AFBD-06333DC5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89AE-DE63-434F-A6BA-88B82EAA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607B-46FC-47F4-871A-14151677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9900-2FCF-4294-AD7D-112583F8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5806-236A-4CAE-A5F9-082BE43C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FBF1-F838-4D06-95DA-C485643B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5F33-71CE-415F-B134-C51C1292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B4A30-7D92-4A7E-83A6-B7AF45A6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80F5-50ED-4A87-B02C-F4DA8850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4C27-8C8C-481C-9383-99666810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EDEC-CE22-4DA5-8DEB-A65DDB55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C206-D84B-417A-B544-3D3690E9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1974-F4B7-46D1-B1ED-C3663BB4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C847A-54C5-400C-AAC8-87C6F49B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FBB5B-70D0-4D95-A2AF-30AF6E49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EA81-6035-4178-9144-06B86BBE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1B329-96B7-47E3-A182-90A6C43C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096DA-8430-4756-8616-90E76F40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C5632-2712-4746-A9BB-53AEDF6D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FB063-A2F1-4182-9F49-4B80509C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e9f9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D166-CBA7-41A4-A91B-34CE05FB97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7191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a7191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5A31-A104-45E3-A8C1-BEE4602CA9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image" Target="../media/image6.png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image" Target="../media/image6.png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image" Target="../media/image6.png"/><Relationship Id="rId12" Type="http://schemas.openxmlformats.org/officeDocument/2006/relationships/slide" Target="slide4.xml"/><Relationship Id="rId13" Type="http://schemas.openxmlformats.org/officeDocument/2006/relationships/slide" Target="slide4.xml"/><Relationship Id="rId14" Type="http://schemas.openxmlformats.org/officeDocument/2006/relationships/slide" Target="slide4.xml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Goudy Stout"/>
              </a:rPr>
              <a:t>CARMEN</a:t>
            </a:r>
            <a:br>
              <a:rPr sz="6000"/>
            </a:br>
            <a:r>
              <a:rPr b="0" lang="en-US" sz="4800" spc="-1" strike="noStrike">
                <a:solidFill>
                  <a:srgbClr val="ffffcc"/>
                </a:solidFill>
                <a:latin typeface="Goudy Stout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Poor Richard"/>
              </a:rPr>
              <a:t>Amore e morte tra balletto, letteratura e cinem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Un percorso tra autori e generi dall’Ottocento al Novecen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Poor Richard"/>
              </a:rPr>
              <a:t>ARGOMENTO</a:t>
            </a:r>
            <a:br>
              <a:rPr sz="2900"/>
            </a:br>
            <a:r>
              <a:rPr b="1" lang="en-US" sz="3400" spc="-1" strike="noStrike">
                <a:solidFill>
                  <a:srgbClr val="ffffcc"/>
                </a:solidFill>
                <a:latin typeface="Poor Richard"/>
              </a:rPr>
              <a:t>IL RACCONTO NEL RACCONTO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5eeead"/>
                </a:solidFill>
                <a:latin typeface="Poor Richard"/>
              </a:rPr>
              <a:t>Josè</a:t>
            </a:r>
            <a:r>
              <a:rPr b="1" lang="it-IT" sz="2400" spc="-1" strike="noStrike">
                <a:solidFill>
                  <a:srgbClr val="ffffcc"/>
                </a:solidFill>
                <a:latin typeface="Poor Richard"/>
              </a:rPr>
              <a:t>,</a:t>
            </a: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 un tempo brigadiere basco di servizio in Andalusia, conosce </a:t>
            </a:r>
            <a:r>
              <a:rPr b="1" lang="it-IT" sz="2400" spc="-1" strike="noStrike">
                <a:solidFill>
                  <a:srgbClr val="5eeead"/>
                </a:solidFill>
                <a:latin typeface="Poor Richard"/>
              </a:rPr>
              <a:t>Carmencita</a:t>
            </a: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, contrabbandiera, ladra, prostituta, nel momento in cui deve arrestarla, ma stregato da lei la fa fuggire. Punito, viene degradato e messo di guardia a un colonnello. Rivede Carmen, che prima lo dileggia e poi lo seduce passando una notte d’amore con lui. Dopo, la perdizione: José uccide un suo commilitone, amante della donna, ed è costretto a fuggire, a darsi al contrabbando insieme agli zingari compagni di lei. Viene a sapere che è sposata e le uccide il marito; viene a sapere che ha un altro amante e allora le lancia un’ultima, disperata proposta: fuggire insieme a lui per rifarsi una vita. Altrimenti, la morte. Ma per Carmen il valore della libertà è infinitamente più alto di quello dell’amore e va incontro alla mor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00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5eeead"/>
                </a:solidFill>
                <a:latin typeface="Poor Richard"/>
              </a:rPr>
              <a:t>Chi è Carmen? </a:t>
            </a:r>
            <a:br>
              <a:rPr sz="3400"/>
            </a:br>
            <a:br>
              <a:rPr sz="3400"/>
            </a:br>
            <a:r>
              <a:rPr b="1" lang="it-IT" sz="2500" spc="-1" strike="noStrike">
                <a:solidFill>
                  <a:srgbClr val="ffffcc"/>
                </a:solidFill>
                <a:latin typeface="Poor Richard"/>
              </a:rPr>
              <a:t>Carmen è un nuovo modello di donna, opposto alle creature angelicate di Dante e Petrarca. E’ la donna tentarice, demoniaca, dai capelli e dagli occhi corvini, ammaliatrice con il solo sguardo. </a:t>
            </a:r>
            <a:br>
              <a:rPr sz="2500"/>
            </a:br>
            <a:r>
              <a:rPr b="1" lang="it-IT" sz="2500" spc="-1" strike="noStrike">
                <a:solidFill>
                  <a:srgbClr val="ffffcc"/>
                </a:solidFill>
                <a:latin typeface="Poor Richard"/>
              </a:rPr>
              <a:t>Seduttrice, incarnazione della femminilità, della passionalità e dello spirito libero ed indomito, la zingara segue i suoi impulsi  senza alcun pentimento e con assoluta coerenza, pagando le sue scelte con l’allontamento dalla società di cui rifiuta le regole (non a caso è gitana) e andando infine incontro al suo destino di morte. </a:t>
            </a:r>
            <a:br>
              <a:rPr sz="2500"/>
            </a:br>
            <a:r>
              <a:rPr b="1" lang="it-IT" sz="2500" spc="-1" strike="noStrike">
                <a:solidFill>
                  <a:srgbClr val="ffffcc"/>
                </a:solidFill>
                <a:latin typeface="Poor Richard"/>
              </a:rPr>
              <a:t>Inevitabile il parallelo con la  grande figura di seduzione al maschile, don Giovanni, o con Mirandolina, ma al contrario della  locandiera di Goldoni, è  priva di inibizioni e pronta a sfidare qualsiasi legge.  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8388360" y="6237360"/>
            <a:ext cx="576360" cy="620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58">
                <a:moveTo>
                  <a:pt x="0" y="0"/>
                </a:moveTo>
                <a:lnTo>
                  <a:pt x="21600" y="0"/>
                </a:lnTo>
                <a:lnTo>
                  <a:pt x="21600" y="23258"/>
                </a:lnTo>
                <a:lnTo>
                  <a:pt x="0" y="23258"/>
                </a:lnTo>
                <a:close/>
              </a:path>
              <a:path fill="lightenLess" w="21600" h="232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8">
                <a:moveTo>
                  <a:pt x="21600" y="0"/>
                </a:moveTo>
                <a:lnTo>
                  <a:pt x="21600" y="23258"/>
                </a:lnTo>
                <a:lnTo>
                  <a:pt x="20200" y="21858"/>
                </a:lnTo>
                <a:lnTo>
                  <a:pt x="20200" y="1400"/>
                </a:lnTo>
                <a:close/>
              </a:path>
              <a:path fill="darkenLess" w="21600" h="23258">
                <a:moveTo>
                  <a:pt x="21600" y="23258"/>
                </a:moveTo>
                <a:lnTo>
                  <a:pt x="0" y="23258"/>
                </a:lnTo>
                <a:lnTo>
                  <a:pt x="1400" y="21858"/>
                </a:lnTo>
                <a:lnTo>
                  <a:pt x="20200" y="21858"/>
                </a:lnTo>
                <a:close/>
              </a:path>
              <a:path fill="lighten" w="21600" h="23258">
                <a:moveTo>
                  <a:pt x="0" y="232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8"/>
                </a:lnTo>
                <a:close/>
              </a:path>
              <a:path fill="darken" w="21600" h="23258">
                <a:moveTo>
                  <a:pt x="10800" y="4666"/>
                </a:moveTo>
                <a:lnTo>
                  <a:pt x="13376" y="7277"/>
                </a:lnTo>
                <a:lnTo>
                  <a:pt x="13376" y="5537"/>
                </a:lnTo>
                <a:lnTo>
                  <a:pt x="15152" y="5537"/>
                </a:lnTo>
                <a:lnTo>
                  <a:pt x="15152" y="9053"/>
                </a:lnTo>
                <a:lnTo>
                  <a:pt x="17763" y="11629"/>
                </a:lnTo>
                <a:lnTo>
                  <a:pt x="16109" y="11629"/>
                </a:lnTo>
                <a:lnTo>
                  <a:pt x="16109" y="18818"/>
                </a:lnTo>
                <a:lnTo>
                  <a:pt x="5491" y="18818"/>
                </a:lnTo>
                <a:lnTo>
                  <a:pt x="5491" y="11629"/>
                </a:lnTo>
                <a:lnTo>
                  <a:pt x="3837" y="11629"/>
                </a:lnTo>
                <a:close/>
              </a:path>
              <a:path fill="darkenLess" w="21600" h="23258">
                <a:moveTo>
                  <a:pt x="13376" y="7277"/>
                </a:moveTo>
                <a:lnTo>
                  <a:pt x="13376" y="5537"/>
                </a:lnTo>
                <a:lnTo>
                  <a:pt x="15152" y="5537"/>
                </a:lnTo>
                <a:lnTo>
                  <a:pt x="15152" y="9053"/>
                </a:lnTo>
                <a:close/>
              </a:path>
              <a:path fill="darkenLess" w="21600" h="23258">
                <a:moveTo>
                  <a:pt x="9877" y="15128"/>
                </a:moveTo>
                <a:lnTo>
                  <a:pt x="11723" y="15128"/>
                </a:lnTo>
                <a:lnTo>
                  <a:pt x="11723" y="18818"/>
                </a:lnTo>
                <a:lnTo>
                  <a:pt x="16109" y="18818"/>
                </a:lnTo>
                <a:lnTo>
                  <a:pt x="16109" y="11629"/>
                </a:lnTo>
                <a:lnTo>
                  <a:pt x="5491" y="11629"/>
                </a:lnTo>
                <a:lnTo>
                  <a:pt x="5491" y="18818"/>
                </a:lnTo>
                <a:lnTo>
                  <a:pt x="9877" y="18818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CARMEN"/>
          <p:cNvPicPr/>
          <p:nvPr/>
        </p:nvPicPr>
        <p:blipFill>
          <a:blip r:embed="rId1"/>
          <a:stretch/>
        </p:blipFill>
        <p:spPr>
          <a:xfrm rot="720600">
            <a:off x="5148000" y="620640"/>
            <a:ext cx="3522600" cy="2654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973440" y="836280"/>
            <a:ext cx="10117080" cy="23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	</a:t>
            </a:r>
            <a:br>
              <a:rPr sz="2400"/>
            </a:b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1. Modulo Tema: amore e morte </a:t>
            </a:r>
            <a:br>
              <a:rPr sz="2400"/>
            </a:b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2. Modulo Genere: novella, opera lirica, balletto, film </a:t>
            </a:r>
            <a:br>
              <a:rPr sz="2400"/>
            </a:b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3. Modulo Autore: Prosper Merimée</a:t>
            </a:r>
            <a:br>
              <a:rPr sz="2400"/>
            </a:b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4. Modulo Opera: “Carmen” di P. Merimée </a:t>
            </a:r>
            <a:br>
              <a:rPr sz="2400"/>
            </a:br>
            <a:r>
              <a:rPr b="1" lang="it-IT" sz="2400" spc="-1" strike="noStrike">
                <a:solidFill>
                  <a:srgbClr val="ffffcc"/>
                </a:solidFill>
                <a:latin typeface="Tahoma"/>
              </a:rPr>
              <a:t>(crediti totali: 8/10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9" descr="CARMEN 4"/>
          <p:cNvPicPr/>
          <p:nvPr/>
        </p:nvPicPr>
        <p:blipFill>
          <a:blip r:embed="rId2"/>
          <a:stretch/>
        </p:blipFill>
        <p:spPr>
          <a:xfrm rot="20559000">
            <a:off x="611280" y="4005000"/>
            <a:ext cx="2455920" cy="2487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ARMEN 3"/>
          <p:cNvPicPr/>
          <p:nvPr/>
        </p:nvPicPr>
        <p:blipFill>
          <a:blip r:embed="rId3"/>
          <a:stretch/>
        </p:blipFill>
        <p:spPr>
          <a:xfrm rot="971400">
            <a:off x="6372000" y="3213000"/>
            <a:ext cx="2377800" cy="3241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ARMEN 2"/>
          <p:cNvPicPr/>
          <p:nvPr/>
        </p:nvPicPr>
        <p:blipFill>
          <a:blip r:embed="rId4"/>
          <a:stretch/>
        </p:blipFill>
        <p:spPr>
          <a:xfrm>
            <a:off x="2987640" y="371628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9f96f"/>
                </a:solidFill>
                <a:latin typeface="Poor Richard"/>
              </a:rPr>
              <a:t>PERCORSO</a:t>
            </a: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35" name="Diagram 8"/>
          <p:cNvGrpSpPr/>
          <p:nvPr/>
        </p:nvGrpSpPr>
        <p:grpSpPr>
          <a:xfrm>
            <a:off x="0" y="1297080"/>
            <a:ext cx="9143280" cy="5241960"/>
            <a:chOff x="0" y="1297080"/>
            <a:chExt cx="9143280" cy="5241960"/>
          </a:xfrm>
        </p:grpSpPr>
        <p:sp>
          <p:nvSpPr>
            <p:cNvPr id="136" name="_s1028"/>
            <p:cNvSpPr/>
            <p:nvPr/>
          </p:nvSpPr>
          <p:spPr>
            <a:xfrm flipH="1">
              <a:off x="2285280" y="3918240"/>
              <a:ext cx="1143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137" name="_s1029"/>
            <p:cNvSpPr/>
            <p:nvPr/>
          </p:nvSpPr>
          <p:spPr>
            <a:xfrm>
              <a:off x="0" y="3263040"/>
              <a:ext cx="2285280" cy="1310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5eeead"/>
                  </a:solidFill>
                  <a:uFillTx/>
                  <a:latin typeface="Poor Richard"/>
                  <a:hlinkClick r:id="rId2" action="ppaction://hlinksldjump"/>
                </a:rPr>
                <a:t>CINEMA </a:t>
              </a:r>
              <a:endParaRPr b="0" lang="en-US" sz="2000" spc="-1" strike="noStrike">
                <a:solidFill>
                  <a:srgbClr val="ffffc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5eeead"/>
                  </a:solidFill>
                  <a:uFillTx/>
                  <a:latin typeface="Poor Richard"/>
                  <a:hlinkClick r:id="rId3" action="ppaction://hlinksldjump"/>
                </a:rPr>
                <a:t>E  BALLETTO</a:t>
              </a:r>
              <a:endParaRPr b="0" lang="en-US" sz="20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138" name="_s1030"/>
            <p:cNvSpPr/>
            <p:nvPr/>
          </p:nvSpPr>
          <p:spPr>
            <a:xfrm>
              <a:off x="4571640" y="4573800"/>
              <a:ext cx="0" cy="654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139" name="_s1031"/>
            <p:cNvSpPr/>
            <p:nvPr/>
          </p:nvSpPr>
          <p:spPr>
            <a:xfrm>
              <a:off x="3429000" y="5228640"/>
              <a:ext cx="2285280" cy="13104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5eeead"/>
                  </a:solidFill>
                  <a:uFillTx/>
                  <a:latin typeface="Poor Richard"/>
                  <a:hlinkClick r:id="rId5" action="ppaction://hlinksldjump"/>
                </a:rPr>
                <a:t>INTERVENTI </a:t>
              </a:r>
              <a:endParaRPr b="0" lang="en-US" sz="2000" spc="-1" strike="noStrike">
                <a:solidFill>
                  <a:srgbClr val="ffffc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5eeead"/>
                  </a:solidFill>
                  <a:uFillTx/>
                  <a:latin typeface="Poor Richard"/>
                  <a:hlinkClick r:id="rId6" action="ppaction://hlinksldjump"/>
                </a:rPr>
                <a:t>MULTI-</a:t>
              </a:r>
              <a:endParaRPr b="0" lang="en-US" sz="2000" spc="-1" strike="noStrike">
                <a:solidFill>
                  <a:srgbClr val="ffffc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5eeead"/>
                  </a:solidFill>
                  <a:uFillTx/>
                  <a:latin typeface="Poor Richard"/>
                  <a:hlinkClick r:id="rId7" action="ppaction://hlinksldjump"/>
                </a:rPr>
                <a:t>DISCIPLINARI</a:t>
              </a:r>
              <a:endParaRPr b="0" lang="en-US" sz="2000" spc="-1" strike="noStrike">
                <a:solidFill>
                  <a:srgbClr val="ffffc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140" name="_s1032"/>
            <p:cNvSpPr/>
            <p:nvPr/>
          </p:nvSpPr>
          <p:spPr>
            <a:xfrm>
              <a:off x="5714280" y="3918240"/>
              <a:ext cx="1143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141" name="_s1033"/>
            <p:cNvSpPr/>
            <p:nvPr/>
          </p:nvSpPr>
          <p:spPr>
            <a:xfrm>
              <a:off x="6858000" y="3263040"/>
              <a:ext cx="2285280" cy="13104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5eeead"/>
                  </a:solidFill>
                  <a:uFillTx/>
                  <a:latin typeface="Poor Richard"/>
                  <a:hlinkClick r:id="rId9" action="ppaction://hlinksldjump"/>
                </a:rPr>
                <a:t>LETTURE </a:t>
              </a:r>
              <a:endParaRPr b="0" lang="en-US" sz="2000" spc="-1" strike="noStrike">
                <a:solidFill>
                  <a:srgbClr val="ffffc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5eeead"/>
                  </a:solidFill>
                  <a:uFillTx/>
                  <a:latin typeface="Poor Richard"/>
                  <a:hlinkClick r:id="rId10" action="ppaction://hlinksldjump"/>
                </a:rPr>
                <a:t>CONSIGLIATE</a:t>
              </a:r>
              <a:endParaRPr b="0" lang="en-US" sz="2000" spc="-1" strike="noStrike">
                <a:solidFill>
                  <a:srgbClr val="ffffc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142" name="_s1034"/>
            <p:cNvSpPr/>
            <p:nvPr/>
          </p:nvSpPr>
          <p:spPr>
            <a:xfrm flipV="1">
              <a:off x="4571640" y="2607480"/>
              <a:ext cx="0" cy="6548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4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143" name="_s1035"/>
            <p:cNvSpPr/>
            <p:nvPr/>
          </p:nvSpPr>
          <p:spPr>
            <a:xfrm>
              <a:off x="3429000" y="1297080"/>
              <a:ext cx="2285280" cy="131040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5eeead"/>
                  </a:solidFill>
                  <a:uFillTx/>
                  <a:latin typeface="Poor Richard"/>
                  <a:hlinkClick r:id="rId12" action="ppaction://hlinksldjump"/>
                </a:rPr>
                <a:t>DAL TESTO </a:t>
              </a:r>
              <a:endParaRPr b="0" lang="en-US" sz="2000" spc="-1" strike="noStrike">
                <a:solidFill>
                  <a:srgbClr val="ffffc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5eeead"/>
                  </a:solidFill>
                  <a:uFillTx/>
                  <a:latin typeface="Poor Richard"/>
                  <a:hlinkClick r:id="rId13" action="ppaction://hlinksldjump"/>
                </a:rPr>
                <a:t>ALL’OPERA </a:t>
              </a:r>
              <a:endParaRPr b="0" lang="en-US" sz="2000" spc="-1" strike="noStrike">
                <a:solidFill>
                  <a:srgbClr val="ffffc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5eeead"/>
                  </a:solidFill>
                  <a:uFillTx/>
                  <a:latin typeface="Poor Richard"/>
                  <a:hlinkClick r:id="rId14" action="ppaction://hlinksldjump"/>
                </a:rPr>
                <a:t>LIRICA</a:t>
              </a:r>
              <a:endParaRPr b="0" lang="en-US" sz="2000" spc="-1" strike="noStrike">
                <a:solidFill>
                  <a:srgbClr val="ffffcc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144" name="_s1036"/>
            <p:cNvSpPr/>
            <p:nvPr/>
          </p:nvSpPr>
          <p:spPr>
            <a:xfrm>
              <a:off x="3429000" y="3263040"/>
              <a:ext cx="2285280" cy="1310400"/>
            </a:xfrm>
            <a:prstGeom prst="ellipse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700" spc="-1" strike="noStrike">
                  <a:solidFill>
                    <a:srgbClr val="990000"/>
                  </a:solidFill>
                  <a:latin typeface="Poor Richard"/>
                </a:rPr>
                <a:t>CARMEN</a:t>
              </a:r>
              <a:endParaRPr b="0" lang="en-US" sz="3700" spc="-1" strike="noStrike">
                <a:solidFill>
                  <a:srgbClr val="ffffc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cc"/>
                </a:solidFill>
                <a:uFillTx/>
                <a:latin typeface="Poor Richard"/>
              </a:rPr>
              <a:t>DAL TESTO ALL’OPERA LIRICA</a:t>
            </a:r>
            <a:br>
              <a:rPr sz="3400"/>
            </a:b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5eeead"/>
                </a:solidFill>
                <a:uFillTx/>
                <a:latin typeface="Poor Richard"/>
                <a:hlinkClick r:id="rId1" action="ppaction://hlinksldjump"/>
              </a:rPr>
              <a:t>Lettura della novella </a:t>
            </a:r>
            <a:r>
              <a:rPr b="0" lang="it-IT" sz="3600" spc="-1" strike="noStrike" u="sng">
                <a:solidFill>
                  <a:srgbClr val="5eeead"/>
                </a:solidFill>
                <a:uFillTx/>
                <a:latin typeface="Poor Richard"/>
                <a:hlinkClick r:id="rId2" action="ppaction://hlinksldjump"/>
              </a:rPr>
              <a:t>Carmen </a:t>
            </a:r>
            <a:r>
              <a:rPr b="0" lang="it-IT" sz="3600" spc="-1" strike="noStrike" u="sng">
                <a:solidFill>
                  <a:srgbClr val="5eeead"/>
                </a:solidFill>
                <a:uFillTx/>
                <a:latin typeface="Poor Richard"/>
                <a:hlinkClick r:id="rId3" action="ppaction://hlinksldjump"/>
              </a:rPr>
              <a:t>di </a:t>
            </a:r>
            <a:r>
              <a:rPr b="0" lang="it-IT" sz="3600" spc="-1" strike="noStrike" u="sng">
                <a:solidFill>
                  <a:srgbClr val="5eeead"/>
                </a:solidFill>
                <a:uFillTx/>
                <a:latin typeface="Poor Richard"/>
                <a:hlinkClick r:id="rId4" action="ppaction://hlinksldjump"/>
              </a:rPr>
              <a:t>Prosper</a:t>
            </a:r>
            <a:r>
              <a:rPr b="0" lang="it-IT" sz="3600" spc="-1" strike="noStrike" u="sng">
                <a:solidFill>
                  <a:srgbClr val="5eeead"/>
                </a:solidFill>
                <a:uFillTx/>
                <a:latin typeface="Poor Richard"/>
                <a:hlinkClick r:id="rId5" action="ppaction://hlinksldjump"/>
              </a:rPr>
              <a:t> </a:t>
            </a:r>
            <a:r>
              <a:rPr b="0" lang="it-IT" sz="3600" spc="-1" strike="noStrike" u="sng">
                <a:solidFill>
                  <a:srgbClr val="5eeead"/>
                </a:solidFill>
                <a:uFillTx/>
                <a:latin typeface="Poor Richard"/>
                <a:hlinkClick r:id="rId6" action="ppaction://hlinksldjump"/>
              </a:rPr>
              <a:t>Merimée</a:t>
            </a:r>
            <a:r>
              <a:rPr b="0" lang="it-IT" sz="3600" spc="-1" strike="noStrike" u="sng">
                <a:solidFill>
                  <a:srgbClr val="5eeead"/>
                </a:solidFill>
                <a:uFillTx/>
                <a:latin typeface="Poor Richard"/>
                <a:hlinkClick r:id="rId7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cc"/>
                </a:solidFill>
                <a:latin typeface="Poor Richard"/>
              </a:rPr>
              <a:t>Biografia dell’autore (consulta il sito www.merimée prosper.it realizzato per il bicentenario della nascita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cc"/>
                </a:solidFill>
                <a:latin typeface="Poor Richard"/>
              </a:rPr>
              <a:t>Lettura e ascolto di una selezione di brani dall’opera lirica </a:t>
            </a:r>
            <a:r>
              <a:rPr b="0" i="1" lang="it-IT" sz="3600" spc="-1" strike="noStrike">
                <a:solidFill>
                  <a:srgbClr val="ffffcc"/>
                </a:solidFill>
                <a:latin typeface="Poor Richard"/>
              </a:rPr>
              <a:t>Carmen  </a:t>
            </a:r>
            <a:r>
              <a:rPr b="0" lang="it-IT" sz="3600" spc="-1" strike="noStrike">
                <a:solidFill>
                  <a:srgbClr val="ffffcc"/>
                </a:solidFill>
                <a:latin typeface="Poor Richard"/>
              </a:rPr>
              <a:t>di Biz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4">
            <a:hlinkClick r:id="rId8" action="ppaction://hlinksldjump"/>
          </p:cNvPr>
          <p:cNvSpPr/>
          <p:nvPr/>
        </p:nvSpPr>
        <p:spPr>
          <a:xfrm>
            <a:off x="7885080" y="5877000"/>
            <a:ext cx="574560" cy="50472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587" h="21600">
                <a:moveTo>
                  <a:pt x="0" y="0"/>
                </a:moveTo>
                <a:lnTo>
                  <a:pt x="24587" y="0"/>
                </a:lnTo>
                <a:lnTo>
                  <a:pt x="24587" y="21600"/>
                </a:lnTo>
                <a:lnTo>
                  <a:pt x="0" y="21600"/>
                </a:lnTo>
                <a:close/>
              </a:path>
              <a:path fill="lightenLess" w="24587" h="21600">
                <a:moveTo>
                  <a:pt x="0" y="0"/>
                </a:moveTo>
                <a:lnTo>
                  <a:pt x="24587" y="0"/>
                </a:lnTo>
                <a:lnTo>
                  <a:pt x="23187" y="1400"/>
                </a:lnTo>
                <a:lnTo>
                  <a:pt x="1400" y="1400"/>
                </a:lnTo>
                <a:close/>
              </a:path>
              <a:path fill="darken" w="24587" h="21600">
                <a:moveTo>
                  <a:pt x="24587" y="0"/>
                </a:moveTo>
                <a:lnTo>
                  <a:pt x="24587" y="21600"/>
                </a:lnTo>
                <a:lnTo>
                  <a:pt x="23187" y="20200"/>
                </a:lnTo>
                <a:lnTo>
                  <a:pt x="23187" y="1400"/>
                </a:lnTo>
                <a:close/>
              </a:path>
              <a:path fill="darkenLess" w="24587" h="21600">
                <a:moveTo>
                  <a:pt x="24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87" y="20200"/>
                </a:lnTo>
                <a:close/>
              </a:path>
              <a:path fill="lighten" w="24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87" h="21600">
                <a:moveTo>
                  <a:pt x="5287" y="10800"/>
                </a:moveTo>
                <a:lnTo>
                  <a:pt x="19300" y="3794"/>
                </a:lnTo>
                <a:lnTo>
                  <a:pt x="19300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cc"/>
                </a:solidFill>
                <a:uFillTx/>
                <a:latin typeface="Poor Richard"/>
              </a:rPr>
              <a:t>DALL’OPERA AL CINEMA E AL BALLETTO</a:t>
            </a:r>
            <a:br>
              <a:rPr sz="3400"/>
            </a:b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Visione di </a:t>
            </a:r>
            <a:r>
              <a:rPr b="0" i="1" lang="it-IT" sz="2400" spc="-1" strike="noStrike">
                <a:solidFill>
                  <a:srgbClr val="ffffcc"/>
                </a:solidFill>
                <a:latin typeface="Poor Richard"/>
              </a:rPr>
              <a:t>Carmen </a:t>
            </a: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di Francesco Rosi, film dall’omonima opera liric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Visione di </a:t>
            </a:r>
            <a:r>
              <a:rPr b="0" i="1" lang="it-IT" sz="2400" spc="-1" strike="noStrike">
                <a:solidFill>
                  <a:srgbClr val="ffffcc"/>
                </a:solidFill>
                <a:latin typeface="Poor Richard"/>
              </a:rPr>
              <a:t>Carmen Story </a:t>
            </a: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di Carlos Saura, film-balletto con Antonio G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Gades, un mito della danza flamen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Il flamenco nella tradizione e ogg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cc"/>
                </a:solidFill>
                <a:uFillTx/>
                <a:latin typeface="Poor Richard"/>
              </a:rPr>
              <a:t>Approfondiment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Visione di </a:t>
            </a:r>
            <a:r>
              <a:rPr b="0" i="1" lang="it-IT" sz="2400" spc="-1" strike="noStrike">
                <a:solidFill>
                  <a:srgbClr val="ffffcc"/>
                </a:solidFill>
                <a:latin typeface="Poor Richard"/>
              </a:rPr>
              <a:t>Carmen Jones</a:t>
            </a: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di Otto Preminger e di </a:t>
            </a:r>
            <a:r>
              <a:rPr b="0" i="1" lang="it-IT" sz="2400" spc="-1" strike="noStrike">
                <a:solidFill>
                  <a:srgbClr val="ffffcc"/>
                </a:solidFill>
                <a:latin typeface="Poor Richard"/>
              </a:rPr>
              <a:t>Prenom Carmen </a:t>
            </a: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di Jean Luc God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Chaplin e la Carmen in “burlesque”, 1915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Spettacolo di balletto: </a:t>
            </a:r>
            <a:r>
              <a:rPr b="0" i="1" lang="it-IT" sz="2400" spc="-1" strike="noStrike">
                <a:solidFill>
                  <a:srgbClr val="ffffcc"/>
                </a:solidFill>
                <a:latin typeface="Poor Richard"/>
              </a:rPr>
              <a:t>Carmen, una storia mediterranea, </a:t>
            </a: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con la Compagnia del Teatro Nuovo di Tor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4">
            <a:hlinkClick r:id="rId1" action="ppaction://hlinksldjump"/>
          </p:cNvPr>
          <p:cNvSpPr/>
          <p:nvPr/>
        </p:nvSpPr>
        <p:spPr>
          <a:xfrm>
            <a:off x="7956720" y="5950080"/>
            <a:ext cx="576000" cy="647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85">
                <a:moveTo>
                  <a:pt x="0" y="0"/>
                </a:moveTo>
                <a:lnTo>
                  <a:pt x="21600" y="0"/>
                </a:lnTo>
                <a:lnTo>
                  <a:pt x="21600" y="24285"/>
                </a:lnTo>
                <a:lnTo>
                  <a:pt x="0" y="24285"/>
                </a:lnTo>
                <a:close/>
              </a:path>
              <a:path fill="lightenLess" w="21600" h="242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5">
                <a:moveTo>
                  <a:pt x="21600" y="0"/>
                </a:moveTo>
                <a:lnTo>
                  <a:pt x="21600" y="24285"/>
                </a:lnTo>
                <a:lnTo>
                  <a:pt x="20200" y="22885"/>
                </a:lnTo>
                <a:lnTo>
                  <a:pt x="20200" y="1400"/>
                </a:lnTo>
                <a:close/>
              </a:path>
              <a:path fill="darkenLess" w="21600" h="24285">
                <a:moveTo>
                  <a:pt x="21600" y="24285"/>
                </a:moveTo>
                <a:lnTo>
                  <a:pt x="0" y="24285"/>
                </a:lnTo>
                <a:lnTo>
                  <a:pt x="1400" y="22885"/>
                </a:lnTo>
                <a:lnTo>
                  <a:pt x="20200" y="22885"/>
                </a:lnTo>
                <a:close/>
              </a:path>
              <a:path fill="lighten" w="21600" h="24285">
                <a:moveTo>
                  <a:pt x="0" y="242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5"/>
                </a:lnTo>
                <a:close/>
              </a:path>
              <a:path fill="darken" w="21600" h="24285">
                <a:moveTo>
                  <a:pt x="3794" y="12142"/>
                </a:moveTo>
                <a:lnTo>
                  <a:pt x="17806" y="5136"/>
                </a:lnTo>
                <a:lnTo>
                  <a:pt x="17806" y="19149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cc"/>
                </a:solidFill>
                <a:uFillTx/>
                <a:latin typeface="Poor Richard"/>
              </a:rPr>
              <a:t>INTERVENTI MULTIDISCIPLINARI (facoltativi) </a:t>
            </a:r>
            <a:br>
              <a:rPr sz="3400"/>
            </a:b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oor Richard"/>
              </a:rPr>
              <a:t>Storia della Francia nell’800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oor Richard"/>
              </a:rPr>
              <a:t>Geografia della Spagna e delle sue region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oor Richard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Poor Richard"/>
              </a:rPr>
              <a:t>Arte:  il gusto per l’esotico nella pittura europea dell’80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4">
            <a:hlinkClick r:id="rId1" action="ppaction://hlinksldjump"/>
          </p:cNvPr>
          <p:cNvSpPr/>
          <p:nvPr/>
        </p:nvSpPr>
        <p:spPr>
          <a:xfrm>
            <a:off x="7885080" y="573408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cc"/>
                </a:solidFill>
                <a:uFillTx/>
                <a:latin typeface="Poor Richard"/>
              </a:rPr>
              <a:t>LETTURE CONSIGLIATE 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Poor Richard"/>
              </a:rPr>
              <a:t>(un romanzo a scelta) </a:t>
            </a:r>
            <a:br>
              <a:rPr sz="3400"/>
            </a:b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Poor Richard"/>
              </a:rPr>
              <a:t>Madame Bovary </a:t>
            </a: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di G. Flaube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Poor Richard"/>
              </a:rPr>
              <a:t>Manon Lescaut</a:t>
            </a: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  dell’ Abbé Prévo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Poor Richard"/>
              </a:rPr>
              <a:t>La dama delle camelie </a:t>
            </a: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di A. Du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Poor Richard"/>
              </a:rPr>
              <a:t>Il rosso e il nero </a:t>
            </a: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di Stendh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Poor Richard"/>
              </a:rPr>
              <a:t>Anna Karenina </a:t>
            </a: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di L. Tolstoj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Poor Richard"/>
              </a:rPr>
              <a:t>Teresa Raquin</a:t>
            </a: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 di H. de Balza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Poor Richard"/>
              </a:rPr>
              <a:t>Cime Tempestose</a:t>
            </a: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 di E. Bro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Poor Richard"/>
              </a:rPr>
              <a:t>Jane Eyre </a:t>
            </a: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di C. Bro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Poor Richard"/>
              </a:rPr>
              <a:t>Fosca</a:t>
            </a: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 di I.U. Tarchet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Poor Richard"/>
              </a:rPr>
              <a:t>Cavalleria Rusticana, La Lupa </a:t>
            </a: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e altre novelle di G. Ver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cc"/>
                </a:solidFill>
                <a:latin typeface="Poor Richard"/>
              </a:rPr>
              <a:t>Malombra </a:t>
            </a:r>
            <a:r>
              <a:rPr b="0" lang="it-IT" sz="2400" spc="-1" strike="noStrike">
                <a:solidFill>
                  <a:srgbClr val="ffffcc"/>
                </a:solidFill>
                <a:latin typeface="Poor Richard"/>
              </a:rPr>
              <a:t>di A. Fogazza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5">
            <a:hlinkClick r:id="rId1" action="ppaction://hlinksldjump"/>
          </p:cNvPr>
          <p:cNvSpPr/>
          <p:nvPr/>
        </p:nvSpPr>
        <p:spPr>
          <a:xfrm>
            <a:off x="7524720" y="6093000"/>
            <a:ext cx="719280" cy="576000"/>
          </a:xfrm>
          <a:custGeom>
            <a:avLst/>
            <a:gdLst>
              <a:gd name="textAreaLeft" fmla="*/ 37080 w 719280"/>
              <a:gd name="textAreaRight" fmla="*/ 682200 w 719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6970" h="21600">
                <a:moveTo>
                  <a:pt x="0" y="0"/>
                </a:moveTo>
                <a:lnTo>
                  <a:pt x="26970" y="0"/>
                </a:lnTo>
                <a:lnTo>
                  <a:pt x="26970" y="21600"/>
                </a:lnTo>
                <a:lnTo>
                  <a:pt x="0" y="21600"/>
                </a:lnTo>
                <a:close/>
              </a:path>
              <a:path fill="lightenLess" w="26970" h="21600">
                <a:moveTo>
                  <a:pt x="0" y="0"/>
                </a:moveTo>
                <a:lnTo>
                  <a:pt x="26970" y="0"/>
                </a:lnTo>
                <a:lnTo>
                  <a:pt x="25570" y="1400"/>
                </a:lnTo>
                <a:lnTo>
                  <a:pt x="1400" y="1400"/>
                </a:lnTo>
                <a:close/>
              </a:path>
              <a:path fill="darken" w="26970" h="21600">
                <a:moveTo>
                  <a:pt x="26970" y="0"/>
                </a:moveTo>
                <a:lnTo>
                  <a:pt x="26970" y="21600"/>
                </a:lnTo>
                <a:lnTo>
                  <a:pt x="25570" y="20200"/>
                </a:lnTo>
                <a:lnTo>
                  <a:pt x="25570" y="1400"/>
                </a:lnTo>
                <a:close/>
              </a:path>
              <a:path fill="darkenLess" w="26970" h="21600">
                <a:moveTo>
                  <a:pt x="26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0" y="20200"/>
                </a:lnTo>
                <a:close/>
              </a:path>
              <a:path fill="lighten" w="26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0" h="21600">
                <a:moveTo>
                  <a:pt x="6478" y="10800"/>
                </a:moveTo>
                <a:lnTo>
                  <a:pt x="20491" y="3794"/>
                </a:lnTo>
                <a:lnTo>
                  <a:pt x="20491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8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ffcc"/>
                </a:solidFill>
                <a:latin typeface="Goudy Stout"/>
              </a:rPr>
              <a:t>Carmen</a:t>
            </a:r>
            <a:br>
              <a:rPr sz="6000"/>
            </a:br>
            <a:r>
              <a:rPr b="1" lang="it-IT" sz="3800" spc="-1" strike="noStrike">
                <a:solidFill>
                  <a:srgbClr val="ffffcc"/>
                </a:solidFill>
                <a:latin typeface="Poor Richard"/>
              </a:rPr>
              <a:t>Prosper Mérimée</a:t>
            </a:r>
            <a:r>
              <a:rPr b="1" lang="it-IT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4400" y="134100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998800"/>
            <a:ext cx="8229600" cy="31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cc"/>
                </a:solidFill>
                <a:latin typeface="Poor Richard"/>
              </a:rPr>
              <a:t>Genere: novel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5eeea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cc"/>
                </a:solidFill>
                <a:latin typeface="Poor Richard"/>
              </a:rPr>
              <a:t>Scritta alcuni anni dopo il secondo viaggio di Mérimée in Spagna (luglio-settembre 1840), pubblicata dapprima sulla “Revue des Deux Mondes” (1845), poi in volume nel 184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788508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Poor Richard"/>
              </a:rPr>
              <a:t>ARGOMENTO</a:t>
            </a:r>
            <a:br>
              <a:rPr sz="2800"/>
            </a:br>
            <a:r>
              <a:rPr b="0" lang="en-US" sz="2900" spc="-1" strike="noStrike">
                <a:solidFill>
                  <a:srgbClr val="ffffcc"/>
                </a:solidFill>
                <a:latin typeface="Poor Richard"/>
              </a:rPr>
              <a:t> </a:t>
            </a:r>
            <a:r>
              <a:rPr b="1" lang="en-US" sz="3400" spc="-1" strike="noStrike">
                <a:solidFill>
                  <a:srgbClr val="ffffcc"/>
                </a:solidFill>
                <a:latin typeface="Poor Richard"/>
              </a:rPr>
              <a:t>LA CORNICE DEL RACCONTO</a:t>
            </a: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Poor Richard"/>
              </a:rPr>
              <a:t>Partito alla ricerca del luogo della battaglia romana di Munda, un </a:t>
            </a:r>
            <a:r>
              <a:rPr b="1" lang="it-IT" sz="2800" spc="-1" strike="noStrike">
                <a:solidFill>
                  <a:srgbClr val="5eeead"/>
                </a:solidFill>
                <a:latin typeface="Poor Richard"/>
              </a:rPr>
              <a:t>archeologo </a:t>
            </a:r>
            <a:r>
              <a:rPr b="0" lang="it-IT" sz="2800" spc="-1" strike="noStrike">
                <a:solidFill>
                  <a:srgbClr val="ffffcc"/>
                </a:solidFill>
                <a:latin typeface="Poor Richard"/>
              </a:rPr>
              <a:t>nel sud della Spagna incontra prima </a:t>
            </a:r>
            <a:r>
              <a:rPr b="1" lang="it-IT" sz="2800" spc="-1" strike="noStrike">
                <a:solidFill>
                  <a:srgbClr val="5eeead"/>
                </a:solidFill>
                <a:latin typeface="Poor Richard"/>
              </a:rPr>
              <a:t>don Josè Navarro</a:t>
            </a:r>
            <a:r>
              <a:rPr b="0" lang="it-IT" sz="2800" spc="-1" strike="noStrike">
                <a:solidFill>
                  <a:srgbClr val="ffffcc"/>
                </a:solidFill>
                <a:latin typeface="Poor Richard"/>
              </a:rPr>
              <a:t>, un bandito ricercato in tutta l’Andalusia per furto, contrabbando e omicidio, e poi </a:t>
            </a:r>
            <a:r>
              <a:rPr b="1" lang="it-IT" sz="2800" spc="-1" strike="noStrike">
                <a:solidFill>
                  <a:srgbClr val="5eeead"/>
                </a:solidFill>
                <a:latin typeface="Poor Richard"/>
              </a:rPr>
              <a:t>Carmen,</a:t>
            </a:r>
            <a:r>
              <a:rPr b="0" lang="it-IT" sz="2800" spc="-1" strike="noStrike">
                <a:solidFill>
                  <a:srgbClr val="ffffcc"/>
                </a:solidFill>
                <a:latin typeface="Poor Richard"/>
              </a:rPr>
              <a:t> fascinosa gitana che lo ammalia e lo inganna, leggendogli la mano e contemporaneamente rubandogli l’orologio. Dopo qualche tempo l’archeologo viene a sapere che don Josè sta per essere giustiziato per l’omicidio di Carmen e lo va ad incontrare in prigione. Il racconto  del bandito parla di una passione senza alternativ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788508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13:27:07Z</dcterms:created>
  <dc:creator>Studente</dc:creator>
  <dc:description/>
  <dc:language>en-US</dc:language>
  <cp:lastModifiedBy> </cp:lastModifiedBy>
  <dcterms:modified xsi:type="dcterms:W3CDTF">2007-05-02T08:53:00Z</dcterms:modified>
  <cp:revision>10</cp:revision>
  <dc:subject/>
  <dc:title>Amore e morte tra balletto, letteratura e cinema</dc:title>
</cp:coreProperties>
</file>